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1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4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png" ContentType="image/png"/>
  <Override PartName="/ppt/media/image23.png" ContentType="image/png"/>
  <Override PartName="/ppt/media/image22.png" ContentType="image/png"/>
  <Override PartName="/ppt/media/image24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5.jpeg" ContentType="image/jpeg"/>
  <Override PartName="/ppt/media/image11.gif" ContentType="image/gif"/>
  <Override PartName="/ppt/media/image28.jpeg" ContentType="image/jpeg"/>
  <Override PartName="/ppt/media/image20.png" ContentType="image/png"/>
  <Override PartName="/ppt/media/image7.jpeg" ContentType="image/jpeg"/>
  <Override PartName="/ppt/media/image8.jpeg" ContentType="image/jpeg"/>
  <Override PartName="/ppt/media/image29.jpeg" ContentType="image/jpeg"/>
  <Override PartName="/ppt/media/image21.gif" ContentType="image/gif"/>
  <Override PartName="/ppt/media/image14.png" ContentType="image/png"/>
  <Override PartName="/ppt/media/image10.jpeg" ContentType="image/jpeg"/>
  <Override PartName="/ppt/media/image12.png" ContentType="image/png"/>
  <Override PartName="/ppt/media/image30.jpeg" ContentType="image/jpeg"/>
  <Override PartName="/ppt/media/image3.jpeg" ContentType="image/jpeg"/>
  <Override PartName="/ppt/media/image15.png" ContentType="image/png"/>
  <Override PartName="/ppt/media/image31.png" ContentType="image/png"/>
  <Override PartName="/ppt/media/image33.jpeg" ContentType="image/jpeg"/>
  <Override PartName="/ppt/media/image18.png" ContentType="image/png"/>
  <Override PartName="/ppt/media/image6.jpeg" ContentType="image/jpeg"/>
  <Override PartName="/ppt/media/image27.jpeg" ContentType="image/jpeg"/>
  <Override PartName="/ppt/media/image9.jpeg" ContentType="image/jpeg"/>
  <Override PartName="/ppt/media/image1.jpeg" ContentType="image/jpeg"/>
  <Override PartName="/ppt/media/chimes.wav" ContentType="audio/x-wav"/>
  <Override PartName="/ppt/media/image16.png" ContentType="image/png"/>
  <Override PartName="/ppt/media/image13.png" ContentType="image/png"/>
  <Override PartName="/ppt/media/image32.jpeg" ContentType="image/jpeg"/>
  <Override PartName="/ppt/media/image17.png" ContentType="image/png"/>
  <Override PartName="/ppt/media/image1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5F08F-EA01-4940-872E-EC5EB625A3B7}" type="slidenum"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手术中温热盐水纱布压迫止血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凝血酶原酶复合物的形成可因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Ⅹ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的活化过程分为两条途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瀑布学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08080"/>
                </a:solidFill>
                <a:latin typeface="Times New Roman"/>
              </a:rPr>
              <a:t>内源性：参与凝血的因子全部来自于血液。常因血液与带负电荷的异物表面接触而启动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08080"/>
                </a:solidFill>
                <a:latin typeface="Times New Roman"/>
              </a:rPr>
              <a:t>外源性：由来自于血液之外的组织因子暴露于血液而启动的凝血过程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08080"/>
                </a:solidFill>
                <a:latin typeface="Times New Roman"/>
              </a:rPr>
              <a:t>组织因子是一种跨膜糖蛋白，存在于大多数组织细胞。生理情况下，直接与循环血液接触的血细胞和内皮细胞不表达组织因子，血管损伤时，暴露出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凝血酶原即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因子——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FⅡ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纤维蛋白原即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因子——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FⅠ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可溶性的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纤维蛋白原先转变成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可溶性的纤维蛋白单体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后聚合成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不溶性的纤维蛋白多聚体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血浆中可溶性的</a:t>
            </a:r>
            <a:r>
              <a:rPr b="1" lang="zh-CN" sz="20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纤维蛋白原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转变成不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溶性的</a:t>
            </a:r>
            <a:r>
              <a:rPr b="1" lang="zh-CN" sz="20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纤维蛋白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多聚体，把血细胞及其他成分网罗在内，从而形成血凝块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凝血的启动阶段，只有少量的凝血酶产生，这部分凝血酶又可以反过去激活其他凝血因子，产生大量凝血酶，维持凝血过程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P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主要由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管内皮细胞产生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I-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也主要由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管内皮细胞产生，通过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P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结合而使之灭活。在正常安静情况下，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管内皮细胞产生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I-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的量是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P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倍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F-Ca2+-FⅦa    </a:t>
            </a: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凝血酶原酶复合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组织因子：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63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氨基酸残基组成的跨膜糖蛋白，血管外层的平滑肌细胞、成纤维细胞、足突状细胞恒定表达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F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随时准备血管破裂以后的止血。而血管内与血浆直接接触的血管内皮细胞、单核细胞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巨噬细胞及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MN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不表达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F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外伤、大手术、产科意外、恶性肿瘤或实质脏器坏死等释放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F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◆ </a:t>
            </a: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血管内皮细胞、单核细胞</a:t>
            </a: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巨噬细胞及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MN</a:t>
            </a: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被炎症介质活化产生和释放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F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C</a:t>
            </a: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缺乏、异常症属常染色体显性遗传，包括数量缺乏和结构异常。临床上多发生深部静脉血栓症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333cc"/>
                </a:solidFill>
                <a:latin typeface="黑体"/>
                <a:ea typeface="黑体"/>
              </a:rPr>
              <a:t>纤溶酶</a:t>
            </a:r>
            <a:r>
              <a:rPr b="0" lang="zh-CN" sz="1400" spc="-1" strike="noStrike">
                <a:solidFill>
                  <a:srgbClr val="3333cc"/>
                </a:solidFill>
                <a:latin typeface="黑体"/>
                <a:ea typeface="黑体"/>
              </a:rPr>
              <a:t>属于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丝氨酸蛋白酶，最敏感的底物是纤维蛋白和纤维蛋白原，可使其分解为许多可溶性小肽，称为</a:t>
            </a:r>
            <a:r>
              <a:rPr b="0" lang="en-US" sz="1200" spc="-1" strike="noStrike">
                <a:solidFill>
                  <a:srgbClr val="000000"/>
                </a:solidFill>
                <a:latin typeface="宋体"/>
              </a:rPr>
              <a:t>FDP</a:t>
            </a:r>
            <a:r>
              <a:rPr b="0" lang="en-US" sz="1200" spc="-1" strike="noStrike">
                <a:solidFill>
                  <a:srgbClr val="000000"/>
                </a:solidFill>
                <a:latin typeface="宋体"/>
              </a:rPr>
              <a:t>。</a:t>
            </a:r>
            <a:r>
              <a:rPr b="0" lang="en-US" sz="1200" spc="-1" strike="noStrike">
                <a:solidFill>
                  <a:srgbClr val="000000"/>
                </a:solidFill>
                <a:latin typeface="宋体"/>
              </a:rPr>
              <a:t>FDP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通常不再发生凝固，而且还具有抗凝血作用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333cc"/>
                </a:solidFill>
                <a:latin typeface="黑体"/>
                <a:ea typeface="黑体"/>
              </a:rPr>
              <a:t>纤溶酶</a:t>
            </a:r>
            <a:r>
              <a:rPr b="0" lang="zh-CN" sz="1400" spc="-1" strike="noStrike">
                <a:solidFill>
                  <a:srgbClr val="3333cc"/>
                </a:solidFill>
                <a:latin typeface="黑体"/>
                <a:ea typeface="黑体"/>
              </a:rPr>
              <a:t>是血浆中活性最强的蛋白酶，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特异性较低，除降解纤维蛋白和纤维蛋白原外，还对凝血因子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12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等有降解作用。因此，当</a:t>
            </a:r>
            <a:r>
              <a:rPr b="0" lang="zh-CN" sz="1400" spc="-1" strike="noStrike">
                <a:solidFill>
                  <a:srgbClr val="3333cc"/>
                </a:solidFill>
                <a:latin typeface="黑体"/>
                <a:ea typeface="黑体"/>
              </a:rPr>
              <a:t>纤溶亢进时，可因凝血因子的大量分解和</a:t>
            </a:r>
            <a:r>
              <a:rPr b="0" lang="en-US" sz="1400" spc="-1" strike="noStrike">
                <a:solidFill>
                  <a:srgbClr val="3333cc"/>
                </a:solidFill>
                <a:latin typeface="黑体"/>
                <a:ea typeface="黑体"/>
              </a:rPr>
              <a:t>FDP</a:t>
            </a:r>
            <a:r>
              <a:rPr b="0" lang="zh-CN" sz="1400" spc="-1" strike="noStrike">
                <a:solidFill>
                  <a:srgbClr val="3333cc"/>
                </a:solidFill>
                <a:latin typeface="黑体"/>
                <a:ea typeface="黑体"/>
              </a:rPr>
              <a:t>的抗凝作用而有出血倾向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宋体"/>
              </a:rPr>
              <a:t>FDP</a:t>
            </a:r>
            <a:r>
              <a:rPr b="1" lang="zh-CN" sz="1200" spc="-1" strike="noStrike">
                <a:solidFill>
                  <a:srgbClr val="000000"/>
                </a:solidFill>
                <a:latin typeface="宋体"/>
              </a:rPr>
              <a:t>最终被单核巨噬细胞系统吞噬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华文细黑"/>
                <a:ea typeface="华文细黑"/>
              </a:rPr>
              <a:t>DIC</a:t>
            </a:r>
            <a:r>
              <a:rPr b="0" lang="zh-CN" sz="4000" spc="-1" strike="noStrike">
                <a:solidFill>
                  <a:srgbClr val="000000"/>
                </a:solidFill>
                <a:latin typeface="华文细黑"/>
                <a:ea typeface="华文细黑"/>
              </a:rPr>
              <a:t>概念分解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致病因子     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广泛微血栓形成，继发纤溶亢进     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四大临床表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1200" spc="-1" strike="noStrike">
                <a:solidFill>
                  <a:srgbClr val="ff00ff"/>
                </a:solidFill>
                <a:latin typeface="Times New Roman"/>
              </a:rPr>
              <a:t>★</a:t>
            </a: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不是独立的疾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1200" spc="-1" strike="noStrike">
                <a:solidFill>
                  <a:srgbClr val="ff00ff"/>
                </a:solidFill>
                <a:latin typeface="Times New Roman"/>
              </a:rPr>
              <a:t>★</a:t>
            </a: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主要特征：凝血功能异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00ff"/>
                </a:solidFill>
                <a:latin typeface="Times New Roman"/>
              </a:rPr>
              <a:t>   ★</a:t>
            </a: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中心环节：大量凝血酶产生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席汉氏综合症，是由一百多年前席汉氏（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eehan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）发现的一种综合症，当产后发生大出血，休克时间过长，就可造成脑垂体前叶功能减退的后遗症，表现为消溲，乏力，脱发，畏寒，闭经，乳房萎缩等，严重者可致死。临床上称之为席汉氏综合症。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暴发型脑膜炎球菌败血症累及肾上腺，引起肾上腺皮质出血性坏死和急性肾上腺皮质功能衰竭，可有明显</a:t>
            </a:r>
            <a:r>
              <a:rPr b="0" lang="zh-CN" sz="1200" spc="-1" strike="noStrike" u="sng">
                <a:solidFill>
                  <a:srgbClr val="000000"/>
                </a:solidFill>
                <a:uFillTx/>
                <a:latin typeface="Times New Roman"/>
              </a:rPr>
              <a:t>休克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症状和皮肤大片瘀斑等体征，称为华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弗氏综合征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Waterhouse-Friderichsen Syndrome)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。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急性早幼粒细胞白血病（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cute promyelocytic leukemiaAPL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）是急性髓细胞白血病（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ML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）的一种特殊类型，被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AB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协作组定为急性髓细胞白血病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3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型。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造血组织的恶性疾病。其特点是骨髓及其他造血组织中有大量白血病细胞无限制地增生，并进入外周血液，而正常血细胞的制造被明显抑制，该病居年轻人恶性疾病中的首位，病因至今仍不完全清楚，病毒可能是主要的致病因子，但还有许多因素如放射、化学毒物（苯等）或药物、遗传素质等可能是致病的辅因子。根据白血病细胞不成熟的程度和白血病的自然病程，分为急性和慢性两大类。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发病急，骨髓和外周血中主要是原始细胞，若不治疗病人常于半年内死亡。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特点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① 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早幼粒细胞浆内充满异常颗粒；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② 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常伴有出血倾向发生率达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72%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～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94%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，严重者出现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IC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③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90%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的患者出现特异性染色体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7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）（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q22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q12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）改变；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④ 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对化疗敏感，但早期死亡率高，尤其在甲细胞毒细胞药物化疗时，约有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%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～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%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患者死于时期出血；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⑤ 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维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酸能诱导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PL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细胞分化成熟，砷剂能诱导其凋亡；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⑥ 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持续缓解时间较长。以往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PL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的治疗效果很差预后凶险，多因并发性弥散性血管内凝血（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IC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）或原发性纤维蛋白溶解导致严重出血，而早期死亡。近年来随着对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PL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细胞生物学的特性认识的不断提高和治疗方法改进，使治疗结果和预后得到了很大的改善，早期死亡率明显下降。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见于长期大量应用糖皮质激素、反复感染或严重肝病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82A10-E8D1-4A1D-A57B-1A35A9349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82163-C370-46E2-A63B-F41AE1956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47D55-F6E7-44F5-BFCE-5CF940DCD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DB01D-474E-4292-A2C1-60C70ACD7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42F6B-E728-4488-9DC1-2D8A47E7A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3DD6F-6F48-4A87-9DCD-D5846BDE6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91845-CBE5-4A46-9314-3B901BE26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F1406-FAF8-42CF-A40B-7C0BD66C1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74FBB-3D57-4F4B-BE11-93A341342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D528F-7A4E-435C-B169-C3803B727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F6B01-FA94-4402-9418-4D67D90F2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7C628-B93D-46C1-AE02-3E0468CDE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72968-87DB-4273-B887-B1E38BF4649B}" type="datetime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B6855-96B2-4660-B9F5-ABE59420122C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huaiyunqi.jbaobao.com/200706/396.shtml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image" Target="../media/image14.png"/><Relationship Id="rId11" Type="http://schemas.openxmlformats.org/officeDocument/2006/relationships/image" Target="../media/image13.png"/><Relationship Id="rId12" Type="http://schemas.openxmlformats.org/officeDocument/2006/relationships/image" Target="../media/image13.png"/><Relationship Id="rId13" Type="http://schemas.openxmlformats.org/officeDocument/2006/relationships/image" Target="../media/image13.png"/><Relationship Id="rId14" Type="http://schemas.openxmlformats.org/officeDocument/2006/relationships/image" Target="../media/image13.png"/><Relationship Id="rId15" Type="http://schemas.openxmlformats.org/officeDocument/2006/relationships/image" Target="../media/image13.png"/><Relationship Id="rId16" Type="http://schemas.openxmlformats.org/officeDocument/2006/relationships/image" Target="../media/image13.png"/><Relationship Id="rId17" Type="http://schemas.openxmlformats.org/officeDocument/2006/relationships/image" Target="../media/image13.png"/><Relationship Id="rId18" Type="http://schemas.openxmlformats.org/officeDocument/2006/relationships/image" Target="../media/image13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13.png"/><Relationship Id="rId22" Type="http://schemas.openxmlformats.org/officeDocument/2006/relationships/slideLayout" Target="../slideLayouts/slideLayout3.xml"/><Relationship Id="rId2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image" Target="../media/image26.png"/><Relationship Id="rId7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50920" y="907920"/>
            <a:ext cx="8605800" cy="52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第八章 弥散性血管内凝血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Disseminated Intravascular Coagulation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）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河北联合大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病理生理学教研室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赵利军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9792A-9193-4195-B49B-7190637F0D45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380360" y="0"/>
            <a:ext cx="1763640" cy="33577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4360" y="549360"/>
            <a:ext cx="5040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3.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血液的高凝状态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826920" y="1628640"/>
            <a:ext cx="2449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ff"/>
                </a:solidFill>
                <a:latin typeface="Times New Roman"/>
              </a:rPr>
              <a:t>● </a:t>
            </a:r>
            <a:r>
              <a:rPr b="1" lang="zh-CN" sz="4000" spc="-1" strike="noStrike">
                <a:solidFill>
                  <a:srgbClr val="00ffff"/>
                </a:solidFill>
                <a:latin typeface="Times New Roman"/>
              </a:rPr>
              <a:t>妊娠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900000" y="2205000"/>
            <a:ext cx="7056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血小板和凝血因子↑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胎盘产生纤溶酶原激活物抑制物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妊娠并发症的血流动力学异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826920" y="4149720"/>
            <a:ext cx="3384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ff"/>
                </a:solidFill>
                <a:latin typeface="Times New Roman"/>
              </a:rPr>
              <a:t>● </a:t>
            </a:r>
            <a:r>
              <a:rPr b="1" lang="zh-CN" sz="4000" spc="-1" strike="noStrike">
                <a:solidFill>
                  <a:srgbClr val="00ffff"/>
                </a:solidFill>
                <a:latin typeface="Times New Roman"/>
              </a:rPr>
              <a:t>酸中毒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4581360"/>
            <a:ext cx="5400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血管内皮损伤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凝血因子活性增强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肝素的抗凝作用减弱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血小板聚集性加强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8138E-E4CA-4946-830E-7FE4D3EF52E6}" type="slidenum">
              <a:t>10</a:t>
            </a:fld>
          </a:p>
        </p:txBody>
      </p:sp>
    </p:spTree>
  </p:cSld>
  <p:transition>
    <p:random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0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250560" y="2204640"/>
            <a:ext cx="8713800" cy="46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休克</a:t>
            </a:r>
            <a:r>
              <a:rPr b="1" lang="zh-CN" sz="2800" spc="-1" strike="noStrike">
                <a:solidFill>
                  <a:srgbClr val="ffff00"/>
                </a:solidFill>
                <a:latin typeface="宋体"/>
              </a:rPr>
              <a:t>（尤其是感染性休克）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宋体"/>
              </a:rPr>
              <a:t>● </a:t>
            </a:r>
            <a:r>
              <a:rPr b="1" lang="zh-CN" sz="2800" spc="-1" strike="noStrike">
                <a:solidFill>
                  <a:srgbClr val="ffff00"/>
                </a:solidFill>
                <a:latin typeface="宋体"/>
              </a:rPr>
              <a:t>血流缓慢或停滞，血细胞聚集性增加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宋体"/>
              </a:rPr>
              <a:t>● </a:t>
            </a:r>
            <a:r>
              <a:rPr b="1" lang="zh-CN" sz="2800" spc="-1" strike="noStrike">
                <a:solidFill>
                  <a:srgbClr val="ffff00"/>
                </a:solidFill>
                <a:latin typeface="宋体"/>
              </a:rPr>
              <a:t>酸中毒致毛细血管通透性增大，血浆外渗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宋体"/>
              </a:rPr>
              <a:t>● </a:t>
            </a:r>
            <a:r>
              <a:rPr b="1" lang="zh-CN" sz="2800" spc="-1" strike="noStrike">
                <a:solidFill>
                  <a:srgbClr val="ffff00"/>
                </a:solidFill>
                <a:latin typeface="宋体"/>
              </a:rPr>
              <a:t>组织细胞、血管内皮细胞缺氧性损伤，凝血易启动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宋体"/>
              </a:rPr>
              <a:t>● </a:t>
            </a:r>
            <a:r>
              <a:rPr b="1" lang="zh-CN" sz="2800" spc="-1" strike="noStrike">
                <a:solidFill>
                  <a:srgbClr val="ffff00"/>
                </a:solidFill>
                <a:latin typeface="宋体"/>
              </a:rPr>
              <a:t>肝、肾低灌流状态使促凝物质清除障碍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宋体"/>
              </a:rPr>
              <a:t>● </a:t>
            </a:r>
            <a:r>
              <a:rPr b="1" lang="zh-CN" sz="2800" spc="-1" strike="noStrike">
                <a:solidFill>
                  <a:srgbClr val="ffff00"/>
                </a:solidFill>
                <a:latin typeface="宋体"/>
              </a:rPr>
              <a:t>酸中毒致血小板和凝血因子活性增强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5435640" y="333360"/>
            <a:ext cx="3384360" cy="244332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539640" y="549360"/>
            <a:ext cx="428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4.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微循环障碍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4C64E-3055-42B8-B027-C437AB615E2C}" type="slidenum">
              <a:t>11</a:t>
            </a:fld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250920" y="333360"/>
            <a:ext cx="5473440" cy="897120"/>
          </a:xfrm>
          <a:prstGeom prst="rect">
            <a:avLst/>
          </a:prstGeom>
          <a:solidFill>
            <a:srgbClr val="9933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四  </a:t>
            </a:r>
            <a:r>
              <a:rPr b="1" lang="en-US" sz="4000" spc="-1" strike="noStrike">
                <a:solidFill>
                  <a:srgbClr val="ffffff"/>
                </a:solidFill>
                <a:latin typeface="宋体"/>
              </a:rPr>
              <a:t>DIC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的发病机制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7" name="ShockwaveFlash1"/>
          <p:cNvGraphicFramePr/>
          <p:nvPr/>
        </p:nvGraphicFramePr>
        <p:xfrm>
          <a:off x="1042920" y="1700280"/>
          <a:ext cx="7542360" cy="4190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1700280"/>
                    <a:ext cx="7542360" cy="4190760"/>
                  </a:xfrm>
                  <a:prstGeom prst="rect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9" name=""/>
          <p:cNvSpPr/>
          <p:nvPr/>
        </p:nvSpPr>
        <p:spPr>
          <a:xfrm>
            <a:off x="1763640" y="602136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00"/>
                </a:solidFill>
                <a:latin typeface="Times New Roman"/>
              </a:rPr>
              <a:t>      </a:t>
            </a:r>
            <a:r>
              <a:rPr b="1" lang="zh-CN" sz="3600" spc="-1" strike="noStrike">
                <a:solidFill>
                  <a:srgbClr val="00ff00"/>
                </a:solidFill>
                <a:latin typeface="Times New Roman"/>
              </a:rPr>
              <a:t>凝血和抗凝血平衡破坏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4C5C9-25B4-4015-B38A-C8B1AAB7E3CA}" type="slidenum">
              <a:t>12</a:t>
            </a:fld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"/>
          <p:cNvGrpSpPr/>
          <p:nvPr/>
        </p:nvGrpSpPr>
        <p:grpSpPr>
          <a:xfrm>
            <a:off x="763560" y="228600"/>
            <a:ext cx="7999560" cy="6327000"/>
            <a:chOff x="763560" y="228600"/>
            <a:chExt cx="7999560" cy="6327000"/>
          </a:xfrm>
        </p:grpSpPr>
        <p:grpSp>
          <p:nvGrpSpPr>
            <p:cNvPr id="91" name=""/>
            <p:cNvGrpSpPr/>
            <p:nvPr/>
          </p:nvGrpSpPr>
          <p:grpSpPr>
            <a:xfrm>
              <a:off x="763560" y="228600"/>
              <a:ext cx="7389360" cy="6327000"/>
              <a:chOff x="763560" y="228600"/>
              <a:chExt cx="7389360" cy="6327000"/>
            </a:xfrm>
          </p:grpSpPr>
          <p:grpSp>
            <p:nvGrpSpPr>
              <p:cNvPr id="92" name=""/>
              <p:cNvGrpSpPr/>
              <p:nvPr/>
            </p:nvGrpSpPr>
            <p:grpSpPr>
              <a:xfrm>
                <a:off x="2133360" y="3646440"/>
                <a:ext cx="685440" cy="685800"/>
                <a:chOff x="2133360" y="3646440"/>
                <a:chExt cx="685440" cy="685800"/>
              </a:xfrm>
            </p:grpSpPr>
            <p:pic>
              <p:nvPicPr>
                <p:cNvPr id="93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133360" y="3646440"/>
                  <a:ext cx="685440" cy="685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4" name=""/>
                <p:cNvSpPr/>
                <p:nvPr/>
              </p:nvSpPr>
              <p:spPr>
                <a:xfrm>
                  <a:off x="2263320" y="3722760"/>
                  <a:ext cx="400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X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" name=""/>
              <p:cNvGrpSpPr/>
              <p:nvPr/>
            </p:nvGrpSpPr>
            <p:grpSpPr>
              <a:xfrm>
                <a:off x="2895480" y="3646440"/>
                <a:ext cx="2361240" cy="1083960"/>
                <a:chOff x="2895480" y="3646440"/>
                <a:chExt cx="2361240" cy="1083960"/>
              </a:xfrm>
            </p:grpSpPr>
            <p:grpSp>
              <p:nvGrpSpPr>
                <p:cNvPr id="96" name=""/>
                <p:cNvGrpSpPr/>
                <p:nvPr/>
              </p:nvGrpSpPr>
              <p:grpSpPr>
                <a:xfrm>
                  <a:off x="2895480" y="3875040"/>
                  <a:ext cx="1447200" cy="855360"/>
                  <a:chOff x="2895480" y="3875040"/>
                  <a:chExt cx="1447200" cy="855360"/>
                </a:xfrm>
              </p:grpSpPr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5480" y="3875040"/>
                    <a:ext cx="1447200" cy="85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8" name=""/>
                  <p:cNvSpPr/>
                  <p:nvPr/>
                </p:nvSpPr>
                <p:spPr>
                  <a:xfrm>
                    <a:off x="3276000" y="4078080"/>
                    <a:ext cx="837720" cy="459720"/>
                  </a:xfrm>
                  <a:prstGeom prst="rect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PLT</a:t>
                    </a: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9" name=""/>
                <p:cNvGrpSpPr/>
                <p:nvPr/>
              </p:nvGrpSpPr>
              <p:grpSpPr>
                <a:xfrm>
                  <a:off x="3961800" y="4103640"/>
                  <a:ext cx="1294920" cy="533160"/>
                  <a:chOff x="3961800" y="4103640"/>
                  <a:chExt cx="1294920" cy="533160"/>
                </a:xfrm>
              </p:grpSpPr>
              <p:pic>
                <p:nvPicPr>
                  <p:cNvPr id="10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61800" y="4103640"/>
                    <a:ext cx="1294920" cy="53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1" name=""/>
                  <p:cNvSpPr/>
                  <p:nvPr/>
                </p:nvSpPr>
                <p:spPr>
                  <a:xfrm>
                    <a:off x="4344120" y="4103640"/>
                    <a:ext cx="5356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Va</a:t>
                    </a: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2" name=""/>
                <p:cNvGrpSpPr/>
                <p:nvPr/>
              </p:nvGrpSpPr>
              <p:grpSpPr>
                <a:xfrm>
                  <a:off x="3885480" y="3646440"/>
                  <a:ext cx="685440" cy="685800"/>
                  <a:chOff x="3885480" y="3646440"/>
                  <a:chExt cx="685440" cy="685800"/>
                </a:xfrm>
              </p:grpSpPr>
              <p:pic>
                <p:nvPicPr>
                  <p:cNvPr id="10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85480" y="3646440"/>
                    <a:ext cx="68544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4" name=""/>
                  <p:cNvSpPr/>
                  <p:nvPr/>
                </p:nvSpPr>
                <p:spPr>
                  <a:xfrm>
                    <a:off x="3963240" y="3722760"/>
                    <a:ext cx="5356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Xa</a:t>
                    </a: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5" name=""/>
              <p:cNvGrpSpPr/>
              <p:nvPr/>
            </p:nvGrpSpPr>
            <p:grpSpPr>
              <a:xfrm>
                <a:off x="6248160" y="4027320"/>
                <a:ext cx="1294920" cy="536040"/>
                <a:chOff x="6248160" y="4027320"/>
                <a:chExt cx="1294920" cy="536040"/>
              </a:xfrm>
            </p:grpSpPr>
            <p:pic>
              <p:nvPicPr>
                <p:cNvPr id="106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248160" y="4027320"/>
                  <a:ext cx="1294920" cy="533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7" name=""/>
                <p:cNvSpPr/>
                <p:nvPr/>
              </p:nvSpPr>
              <p:spPr>
                <a:xfrm>
                  <a:off x="6706800" y="4103640"/>
                  <a:ext cx="400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V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" name=""/>
              <p:cNvGrpSpPr/>
              <p:nvPr/>
            </p:nvGrpSpPr>
            <p:grpSpPr>
              <a:xfrm>
                <a:off x="4038480" y="4941720"/>
                <a:ext cx="1336320" cy="868320"/>
                <a:chOff x="4038480" y="4941720"/>
                <a:chExt cx="1336320" cy="868320"/>
              </a:xfrm>
            </p:grpSpPr>
            <p:pic>
              <p:nvPicPr>
                <p:cNvPr id="109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4038480" y="4941720"/>
                  <a:ext cx="1336320" cy="868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0" name=""/>
                <p:cNvSpPr/>
                <p:nvPr/>
              </p:nvSpPr>
              <p:spPr>
                <a:xfrm>
                  <a:off x="4115880" y="5167080"/>
                  <a:ext cx="11836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Thrombin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" name=""/>
              <p:cNvGrpSpPr/>
              <p:nvPr/>
            </p:nvGrpSpPr>
            <p:grpSpPr>
              <a:xfrm>
                <a:off x="763560" y="4941720"/>
                <a:ext cx="1463760" cy="925560"/>
                <a:chOff x="763560" y="4941720"/>
                <a:chExt cx="1463760" cy="925560"/>
              </a:xfrm>
            </p:grpSpPr>
            <p:pic>
              <p:nvPicPr>
                <p:cNvPr id="112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779400" y="4941720"/>
                  <a:ext cx="1402920" cy="925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3" name=""/>
                <p:cNvSpPr/>
                <p:nvPr/>
              </p:nvSpPr>
              <p:spPr>
                <a:xfrm>
                  <a:off x="763560" y="5219640"/>
                  <a:ext cx="14637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Prothrombin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" name=""/>
              <p:cNvGrpSpPr/>
              <p:nvPr/>
            </p:nvGrpSpPr>
            <p:grpSpPr>
              <a:xfrm>
                <a:off x="1676160" y="6073560"/>
                <a:ext cx="1904760" cy="482040"/>
                <a:chOff x="1676160" y="6073560"/>
                <a:chExt cx="1904760" cy="482040"/>
              </a:xfrm>
            </p:grpSpPr>
            <p:pic>
              <p:nvPicPr>
                <p:cNvPr id="115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676160" y="6073560"/>
                  <a:ext cx="1904760" cy="468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6" name=""/>
                <p:cNvSpPr/>
                <p:nvPr/>
              </p:nvSpPr>
              <p:spPr>
                <a:xfrm>
                  <a:off x="1907640" y="6095880"/>
                  <a:ext cx="15202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Fibrinogen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7" name=""/>
              <p:cNvGrpSpPr/>
              <p:nvPr/>
            </p:nvGrpSpPr>
            <p:grpSpPr>
              <a:xfrm>
                <a:off x="5714640" y="6073560"/>
                <a:ext cx="1904760" cy="482040"/>
                <a:chOff x="5714640" y="6073560"/>
                <a:chExt cx="1904760" cy="482040"/>
              </a:xfrm>
            </p:grpSpPr>
            <p:pic>
              <p:nvPicPr>
                <p:cNvPr id="118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5714640" y="6073560"/>
                  <a:ext cx="1904760" cy="468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" name=""/>
                <p:cNvSpPr/>
                <p:nvPr/>
              </p:nvSpPr>
              <p:spPr>
                <a:xfrm>
                  <a:off x="6248160" y="6095880"/>
                  <a:ext cx="927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Fibrin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0" name=""/>
              <p:cNvSpPr/>
              <p:nvPr/>
            </p:nvSpPr>
            <p:spPr>
              <a:xfrm>
                <a:off x="2895480" y="3570120"/>
                <a:ext cx="914040" cy="228600"/>
              </a:xfrm>
              <a:custGeom>
                <a:avLst/>
                <a:gdLst/>
                <a:ahLst/>
                <a:rect l="l" t="t" r="r" b="b"/>
                <a:pathLst>
                  <a:path w="768" h="248">
                    <a:moveTo>
                      <a:pt x="0" y="248"/>
                    </a:moveTo>
                    <a:cubicBezTo>
                      <a:pt x="80" y="132"/>
                      <a:pt x="160" y="16"/>
                      <a:pt x="288" y="8"/>
                    </a:cubicBezTo>
                    <a:cubicBezTo>
                      <a:pt x="416" y="0"/>
                      <a:pt x="704" y="176"/>
                      <a:pt x="768" y="200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flipH="1">
                <a:off x="5333400" y="4332240"/>
                <a:ext cx="837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8280" y="5398920"/>
                <a:ext cx="13712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971440" y="4865400"/>
                <a:ext cx="304560" cy="457200"/>
              </a:xfrm>
              <a:custGeom>
                <a:avLst/>
                <a:gdLst/>
                <a:ahLst/>
                <a:rect l="l" t="t" r="r" b="b"/>
                <a:pathLst>
                  <a:path w="168" h="384">
                    <a:moveTo>
                      <a:pt x="168" y="0"/>
                    </a:moveTo>
                    <a:cubicBezTo>
                      <a:pt x="108" y="64"/>
                      <a:pt x="48" y="128"/>
                      <a:pt x="24" y="192"/>
                    </a:cubicBezTo>
                    <a:cubicBezTo>
                      <a:pt x="0" y="256"/>
                      <a:pt x="12" y="320"/>
                      <a:pt x="24" y="384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809880" y="6302160"/>
                <a:ext cx="15998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4647960" y="5823000"/>
                <a:ext cx="0" cy="4032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3809880" y="2225520"/>
                <a:ext cx="2361240" cy="1083960"/>
                <a:chOff x="3809880" y="2225520"/>
                <a:chExt cx="2361240" cy="1083960"/>
              </a:xfrm>
            </p:grpSpPr>
            <p:grpSp>
              <p:nvGrpSpPr>
                <p:cNvPr id="127" name=""/>
                <p:cNvGrpSpPr/>
                <p:nvPr/>
              </p:nvGrpSpPr>
              <p:grpSpPr>
                <a:xfrm>
                  <a:off x="3809880" y="2454120"/>
                  <a:ext cx="1447200" cy="855360"/>
                  <a:chOff x="3809880" y="2454120"/>
                  <a:chExt cx="1447200" cy="855360"/>
                </a:xfrm>
              </p:grpSpPr>
              <p:pic>
                <p:nvPicPr>
                  <p:cNvPr id="12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809880" y="2454120"/>
                    <a:ext cx="1447200" cy="85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29" name=""/>
                  <p:cNvSpPr/>
                  <p:nvPr/>
                </p:nvSpPr>
                <p:spPr>
                  <a:xfrm>
                    <a:off x="4190400" y="2657160"/>
                    <a:ext cx="837720" cy="459720"/>
                  </a:xfrm>
                  <a:prstGeom prst="rect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PLT</a:t>
                    </a: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0" name=""/>
                <p:cNvGrpSpPr/>
                <p:nvPr/>
              </p:nvGrpSpPr>
              <p:grpSpPr>
                <a:xfrm>
                  <a:off x="4800240" y="2225520"/>
                  <a:ext cx="685440" cy="685800"/>
                  <a:chOff x="4800240" y="2225520"/>
                  <a:chExt cx="685440" cy="685800"/>
                </a:xfrm>
              </p:grpSpPr>
              <p:pic>
                <p:nvPicPr>
                  <p:cNvPr id="131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0240" y="2225520"/>
                    <a:ext cx="68544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32" name=""/>
                  <p:cNvSpPr/>
                  <p:nvPr/>
                </p:nvSpPr>
                <p:spPr>
                  <a:xfrm>
                    <a:off x="4801680" y="2301480"/>
                    <a:ext cx="63792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IXa</a:t>
                    </a: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3" name=""/>
                <p:cNvGrpSpPr/>
                <p:nvPr/>
              </p:nvGrpSpPr>
              <p:grpSpPr>
                <a:xfrm>
                  <a:off x="4876560" y="2682720"/>
                  <a:ext cx="1294560" cy="533160"/>
                  <a:chOff x="4876560" y="2682720"/>
                  <a:chExt cx="1294560" cy="533160"/>
                </a:xfrm>
              </p:grpSpPr>
              <p:pic>
                <p:nvPicPr>
                  <p:cNvPr id="134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876560" y="2682720"/>
                    <a:ext cx="1294560" cy="53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35" name=""/>
                  <p:cNvSpPr/>
                  <p:nvPr/>
                </p:nvSpPr>
                <p:spPr>
                  <a:xfrm>
                    <a:off x="5105520" y="2682720"/>
                    <a:ext cx="84204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VIIIa</a:t>
                    </a: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36" name=""/>
              <p:cNvGrpSpPr/>
              <p:nvPr/>
            </p:nvGrpSpPr>
            <p:grpSpPr>
              <a:xfrm>
                <a:off x="6857640" y="2700360"/>
                <a:ext cx="1295280" cy="533160"/>
                <a:chOff x="6857640" y="2700360"/>
                <a:chExt cx="1295280" cy="533160"/>
              </a:xfrm>
            </p:grpSpPr>
            <p:pic>
              <p:nvPicPr>
                <p:cNvPr id="137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6857640" y="2700360"/>
                  <a:ext cx="1295280" cy="533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8" name=""/>
                <p:cNvSpPr/>
                <p:nvPr/>
              </p:nvSpPr>
              <p:spPr>
                <a:xfrm>
                  <a:off x="7087320" y="2700360"/>
                  <a:ext cx="8420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VIIIa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9" name=""/>
              <p:cNvSpPr/>
              <p:nvPr/>
            </p:nvSpPr>
            <p:spPr>
              <a:xfrm flipH="1">
                <a:off x="6247800" y="2928960"/>
                <a:ext cx="5331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6324480" y="1633320"/>
                <a:ext cx="685440" cy="685800"/>
                <a:chOff x="6324480" y="1633320"/>
                <a:chExt cx="685440" cy="685800"/>
              </a:xfrm>
            </p:grpSpPr>
            <p:pic>
              <p:nvPicPr>
                <p:cNvPr id="141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6324480" y="1633320"/>
                  <a:ext cx="685440" cy="685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2" name=""/>
                <p:cNvSpPr/>
                <p:nvPr/>
              </p:nvSpPr>
              <p:spPr>
                <a:xfrm>
                  <a:off x="6429240" y="1785600"/>
                  <a:ext cx="5022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IX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3" name=""/>
              <p:cNvSpPr/>
              <p:nvPr/>
            </p:nvSpPr>
            <p:spPr>
              <a:xfrm flipH="1">
                <a:off x="5562360" y="2166840"/>
                <a:ext cx="685440" cy="3049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44" name=""/>
              <p:cNvGrpSpPr/>
              <p:nvPr/>
            </p:nvGrpSpPr>
            <p:grpSpPr>
              <a:xfrm>
                <a:off x="5486040" y="1023840"/>
                <a:ext cx="685440" cy="685800"/>
                <a:chOff x="5486040" y="1023840"/>
                <a:chExt cx="685440" cy="685800"/>
              </a:xfrm>
            </p:grpSpPr>
            <p:pic>
              <p:nvPicPr>
                <p:cNvPr id="145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5486040" y="1023840"/>
                  <a:ext cx="685440" cy="685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6" name=""/>
                <p:cNvSpPr/>
                <p:nvPr/>
              </p:nvSpPr>
              <p:spPr>
                <a:xfrm>
                  <a:off x="5531400" y="1176120"/>
                  <a:ext cx="6379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XIa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7" name=""/>
              <p:cNvSpPr/>
              <p:nvPr/>
            </p:nvSpPr>
            <p:spPr>
              <a:xfrm>
                <a:off x="5943240" y="1785960"/>
                <a:ext cx="152280" cy="3808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flipH="1" rot="20147400">
                <a:off x="3301200" y="3111480"/>
                <a:ext cx="521640" cy="339480"/>
              </a:xfrm>
              <a:custGeom>
                <a:avLst/>
                <a:gdLst/>
                <a:ahLst/>
                <a:rect l="l" t="t" r="r" b="b"/>
                <a:pathLst>
                  <a:path w="1224" h="512">
                    <a:moveTo>
                      <a:pt x="0" y="32"/>
                    </a:moveTo>
                    <a:cubicBezTo>
                      <a:pt x="332" y="16"/>
                      <a:pt x="664" y="0"/>
                      <a:pt x="864" y="80"/>
                    </a:cubicBezTo>
                    <a:cubicBezTo>
                      <a:pt x="1064" y="160"/>
                      <a:pt x="1224" y="472"/>
                      <a:pt x="1200" y="512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49" name=""/>
              <p:cNvGrpSpPr/>
              <p:nvPr/>
            </p:nvGrpSpPr>
            <p:grpSpPr>
              <a:xfrm>
                <a:off x="2361960" y="304560"/>
                <a:ext cx="685440" cy="685800"/>
                <a:chOff x="2361960" y="304560"/>
                <a:chExt cx="685440" cy="685800"/>
              </a:xfrm>
            </p:grpSpPr>
            <p:pic>
              <p:nvPicPr>
                <p:cNvPr id="150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2361960" y="304560"/>
                  <a:ext cx="685440" cy="685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1" name=""/>
                <p:cNvSpPr/>
                <p:nvPr/>
              </p:nvSpPr>
              <p:spPr>
                <a:xfrm>
                  <a:off x="2407320" y="456840"/>
                  <a:ext cx="6044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XII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2" name=""/>
              <p:cNvGrpSpPr/>
              <p:nvPr/>
            </p:nvGrpSpPr>
            <p:grpSpPr>
              <a:xfrm>
                <a:off x="4420440" y="304560"/>
                <a:ext cx="741240" cy="685800"/>
                <a:chOff x="4420440" y="304560"/>
                <a:chExt cx="741240" cy="685800"/>
              </a:xfrm>
            </p:grpSpPr>
            <p:pic>
              <p:nvPicPr>
                <p:cNvPr id="153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4476240" y="304560"/>
                  <a:ext cx="685440" cy="685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4" name=""/>
                <p:cNvSpPr/>
                <p:nvPr/>
              </p:nvSpPr>
              <p:spPr>
                <a:xfrm>
                  <a:off x="4420440" y="456840"/>
                  <a:ext cx="7401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XIIa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5" name=""/>
              <p:cNvGrpSpPr/>
              <p:nvPr/>
            </p:nvGrpSpPr>
            <p:grpSpPr>
              <a:xfrm>
                <a:off x="3657240" y="1066680"/>
                <a:ext cx="685440" cy="685800"/>
                <a:chOff x="3657240" y="1066680"/>
                <a:chExt cx="685440" cy="685800"/>
              </a:xfrm>
            </p:grpSpPr>
            <p:pic>
              <p:nvPicPr>
                <p:cNvPr id="156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3657240" y="1066680"/>
                  <a:ext cx="685440" cy="685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7" name=""/>
                <p:cNvSpPr/>
                <p:nvPr/>
              </p:nvSpPr>
              <p:spPr>
                <a:xfrm>
                  <a:off x="3761640" y="1218960"/>
                  <a:ext cx="5022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XI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8" name=""/>
              <p:cNvSpPr/>
              <p:nvPr/>
            </p:nvSpPr>
            <p:spPr>
              <a:xfrm>
                <a:off x="4419360" y="1447560"/>
                <a:ext cx="9140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4800240" y="1066680"/>
                <a:ext cx="0" cy="3268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3200040" y="685800"/>
                <a:ext cx="11426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pic>
            <p:nvPicPr>
              <p:cNvPr id="161" name="" descr=""/>
              <p:cNvPicPr/>
              <p:nvPr/>
            </p:nvPicPr>
            <p:blipFill>
              <a:blip r:embed="rId19"/>
              <a:stretch/>
            </p:blipFill>
            <p:spPr>
              <a:xfrm>
                <a:off x="3124080" y="228600"/>
                <a:ext cx="1142640" cy="3873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2" name=""/>
            <p:cNvSpPr/>
            <p:nvPr/>
          </p:nvSpPr>
          <p:spPr>
            <a:xfrm>
              <a:off x="8229600" y="1523880"/>
              <a:ext cx="533520" cy="3080160"/>
            </a:xfrm>
            <a:prstGeom prst="rect">
              <a:avLst/>
            </a:prstGeom>
            <a:noFill/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9900"/>
                  </a:solidFill>
                  <a:latin typeface="Times New Roman"/>
                </a:rPr>
                <a:t>内源性凝血系统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152280" y="1676520"/>
            <a:ext cx="5943600" cy="3080160"/>
            <a:chOff x="152280" y="1676520"/>
            <a:chExt cx="5943600" cy="3080160"/>
          </a:xfrm>
        </p:grpSpPr>
        <p:grpSp>
          <p:nvGrpSpPr>
            <p:cNvPr id="164" name=""/>
            <p:cNvGrpSpPr/>
            <p:nvPr/>
          </p:nvGrpSpPr>
          <p:grpSpPr>
            <a:xfrm>
              <a:off x="838080" y="1981080"/>
              <a:ext cx="5257800" cy="1787400"/>
              <a:chOff x="838080" y="1981080"/>
              <a:chExt cx="5257800" cy="1787400"/>
            </a:xfrm>
          </p:grpSpPr>
          <p:grpSp>
            <p:nvGrpSpPr>
              <p:cNvPr id="165" name=""/>
              <p:cNvGrpSpPr/>
              <p:nvPr/>
            </p:nvGrpSpPr>
            <p:grpSpPr>
              <a:xfrm>
                <a:off x="838080" y="2546280"/>
                <a:ext cx="1523880" cy="1222200"/>
                <a:chOff x="838080" y="2546280"/>
                <a:chExt cx="1523880" cy="1222200"/>
              </a:xfrm>
            </p:grpSpPr>
            <p:grpSp>
              <p:nvGrpSpPr>
                <p:cNvPr id="166" name=""/>
                <p:cNvGrpSpPr/>
                <p:nvPr/>
              </p:nvGrpSpPr>
              <p:grpSpPr>
                <a:xfrm>
                  <a:off x="838080" y="2546280"/>
                  <a:ext cx="1222200" cy="1222200"/>
                  <a:chOff x="838080" y="2546280"/>
                  <a:chExt cx="1222200" cy="1222200"/>
                </a:xfrm>
              </p:grpSpPr>
              <p:pic>
                <p:nvPicPr>
                  <p:cNvPr id="167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838080" y="2546280"/>
                    <a:ext cx="1222200" cy="12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8" name=""/>
                  <p:cNvSpPr/>
                  <p:nvPr/>
                </p:nvSpPr>
                <p:spPr>
                  <a:xfrm>
                    <a:off x="1110960" y="2850840"/>
                    <a:ext cx="717480" cy="64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TF</a:t>
                    </a:r>
                    <a:endParaRPr b="0" lang="en-US" sz="36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69" name=""/>
                <p:cNvGrpSpPr/>
                <p:nvPr/>
              </p:nvGrpSpPr>
              <p:grpSpPr>
                <a:xfrm>
                  <a:off x="1676160" y="3079440"/>
                  <a:ext cx="685800" cy="685440"/>
                  <a:chOff x="1676160" y="3079440"/>
                  <a:chExt cx="685800" cy="685440"/>
                </a:xfrm>
              </p:grpSpPr>
              <p:pic>
                <p:nvPicPr>
                  <p:cNvPr id="170" name="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1676160" y="3079440"/>
                    <a:ext cx="685800" cy="68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71" name=""/>
                  <p:cNvSpPr/>
                  <p:nvPr/>
                </p:nvSpPr>
                <p:spPr>
                  <a:xfrm>
                    <a:off x="1676160" y="3222000"/>
                    <a:ext cx="68580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VIIa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72" name=""/>
              <p:cNvSpPr/>
              <p:nvPr/>
            </p:nvSpPr>
            <p:spPr>
              <a:xfrm>
                <a:off x="2438280" y="3308400"/>
                <a:ext cx="914400" cy="380880"/>
              </a:xfrm>
              <a:custGeom>
                <a:avLst/>
                <a:gdLst/>
                <a:ahLst/>
                <a:rect l="l" t="t" r="r" b="b"/>
                <a:pathLst>
                  <a:path w="1224" h="512">
                    <a:moveTo>
                      <a:pt x="0" y="32"/>
                    </a:moveTo>
                    <a:cubicBezTo>
                      <a:pt x="332" y="16"/>
                      <a:pt x="664" y="0"/>
                      <a:pt x="864" y="80"/>
                    </a:cubicBezTo>
                    <a:cubicBezTo>
                      <a:pt x="1064" y="160"/>
                      <a:pt x="1224" y="472"/>
                      <a:pt x="1200" y="512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2057400" y="1981080"/>
                <a:ext cx="4038480" cy="892080"/>
              </a:xfrm>
              <a:custGeom>
                <a:avLst/>
                <a:gdLst/>
                <a:ahLst/>
                <a:rect l="l" t="t" r="r" b="b"/>
                <a:pathLst>
                  <a:path w="2640" h="640">
                    <a:moveTo>
                      <a:pt x="0" y="640"/>
                    </a:moveTo>
                    <a:cubicBezTo>
                      <a:pt x="764" y="384"/>
                      <a:pt x="1528" y="128"/>
                      <a:pt x="1968" y="64"/>
                    </a:cubicBezTo>
                    <a:cubicBezTo>
                      <a:pt x="2408" y="0"/>
                      <a:pt x="2524" y="128"/>
                      <a:pt x="2640" y="256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74" name=""/>
            <p:cNvSpPr/>
            <p:nvPr/>
          </p:nvSpPr>
          <p:spPr>
            <a:xfrm>
              <a:off x="152280" y="1676520"/>
              <a:ext cx="533520" cy="3080160"/>
            </a:xfrm>
            <a:prstGeom prst="rect">
              <a:avLst/>
            </a:prstGeom>
            <a:noFill/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9900"/>
                  </a:solidFill>
                  <a:latin typeface="Times New Roman"/>
                </a:rPr>
                <a:t>外源性凝血系统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5" name=""/>
          <p:cNvSpPr/>
          <p:nvPr/>
        </p:nvSpPr>
        <p:spPr>
          <a:xfrm>
            <a:off x="3651840" y="4365720"/>
            <a:ext cx="741600" cy="45972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Ca</a:t>
            </a:r>
            <a:r>
              <a:rPr b="1" lang="en-US" sz="2400" spc="-1" strike="noStrike" baseline="30000">
                <a:solidFill>
                  <a:srgbClr val="ffff00"/>
                </a:solidFill>
                <a:latin typeface="Times New Roman"/>
              </a:rPr>
              <a:t>2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132560" y="3645000"/>
            <a:ext cx="741600" cy="45972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Ca</a:t>
            </a:r>
            <a:r>
              <a:rPr b="1" lang="en-US" sz="2400" spc="-1" strike="noStrike" baseline="30000">
                <a:solidFill>
                  <a:srgbClr val="ffff00"/>
                </a:solidFill>
                <a:latin typeface="Times New Roman"/>
              </a:rPr>
              <a:t>2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588560" y="2997360"/>
            <a:ext cx="741600" cy="45972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Ca</a:t>
            </a:r>
            <a:r>
              <a:rPr b="1" lang="en-US" sz="2400" spc="-1" strike="noStrike" baseline="30000">
                <a:solidFill>
                  <a:srgbClr val="ffff00"/>
                </a:solidFill>
                <a:latin typeface="Times New Roman"/>
              </a:rPr>
              <a:t>2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8685F-50AE-459A-B611-B1DDC0B66B4F}" type="slidenum">
              <a:t>13</a:t>
            </a:fld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0" y="0"/>
            <a:ext cx="9144000" cy="551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ff00"/>
                </a:solidFill>
                <a:latin typeface="Times New Roman"/>
                <a:ea typeface="华文新魏"/>
              </a:rPr>
              <a:t>凝血的三个阶段：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.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凝血酶原酶复合物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（</a:t>
            </a:r>
            <a:r>
              <a:rPr b="1" lang="en-US" sz="3200" spc="-1" strike="noStrike" u="sng">
                <a:solidFill>
                  <a:srgbClr val="ffff00"/>
                </a:solidFill>
                <a:uFillTx/>
                <a:latin typeface="宋体"/>
              </a:rPr>
              <a:t>FⅩa-FⅤa-Ca</a:t>
            </a:r>
            <a:r>
              <a:rPr b="1" lang="en-US" sz="3200" spc="-1" strike="noStrike" u="sng" baseline="18000">
                <a:solidFill>
                  <a:srgbClr val="ffff00"/>
                </a:solidFill>
                <a:uFillTx/>
                <a:latin typeface="宋体"/>
              </a:rPr>
              <a:t>2+</a:t>
            </a:r>
            <a:r>
              <a:rPr b="1" lang="en-US" sz="3200" spc="-1" strike="noStrike" u="sng">
                <a:solidFill>
                  <a:srgbClr val="ffff00"/>
                </a:solidFill>
                <a:uFillTx/>
                <a:latin typeface="宋体"/>
              </a:rPr>
              <a:t>-</a:t>
            </a:r>
            <a:r>
              <a:rPr b="1" lang="zh-CN" sz="3200" spc="-1" strike="noStrike" u="sng">
                <a:solidFill>
                  <a:srgbClr val="ffff00"/>
                </a:solidFill>
                <a:uFillTx/>
                <a:latin typeface="宋体"/>
              </a:rPr>
              <a:t>磷脂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2.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凝血酶原</a:t>
            </a:r>
            <a:r>
              <a:rPr b="1" lang="en-US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(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II</a:t>
            </a:r>
            <a:r>
              <a:rPr b="1" lang="en-US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)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凝血酶</a:t>
            </a:r>
            <a:r>
              <a:rPr b="1" lang="en-US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(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IIa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</a:t>
            </a:r>
            <a:r>
              <a:rPr b="1" lang="en-US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3.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纤维蛋白原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I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)     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纤维蛋白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Ia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  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284720" y="2565360"/>
            <a:ext cx="228600" cy="609480"/>
          </a:xfrm>
          <a:prstGeom prst="downArrow">
            <a:avLst>
              <a:gd name="adj1" fmla="val 50000"/>
              <a:gd name="adj2" fmla="val 66654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508720" y="3645000"/>
            <a:ext cx="228600" cy="753840"/>
          </a:xfrm>
          <a:prstGeom prst="downArrow">
            <a:avLst>
              <a:gd name="adj1" fmla="val 50000"/>
              <a:gd name="adj2" fmla="val 82441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851280" y="3213000"/>
            <a:ext cx="1225440" cy="144720"/>
          </a:xfrm>
          <a:prstGeom prst="rightArrow">
            <a:avLst>
              <a:gd name="adj1" fmla="val 50000"/>
              <a:gd name="adj2" fmla="val 211692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219640" y="4508640"/>
            <a:ext cx="792360" cy="144360"/>
          </a:xfrm>
          <a:prstGeom prst="rightArrow">
            <a:avLst>
              <a:gd name="adj1" fmla="val 50000"/>
              <a:gd name="adj2" fmla="val 137219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121920" y="5734080"/>
            <a:ext cx="3192120" cy="82512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瀑布式的酶促反应”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8F5F0-A181-4C62-B986-731117618C9B}" type="slidenum">
              <a:t>14</a:t>
            </a:fld>
          </a:p>
        </p:txBody>
      </p:sp>
    </p:spTree>
  </p:cSld>
  <p:transition>
    <p:random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0" y="2021040"/>
            <a:ext cx="9144000" cy="48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①</a:t>
            </a:r>
            <a:r>
              <a:rPr b="1" lang="zh-CN" sz="3200" spc="-1" strike="noStrike">
                <a:solidFill>
                  <a:srgbClr val="cc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血管基底膜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胶原暴露，启动内凝系统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②</a:t>
            </a:r>
            <a:r>
              <a:rPr b="1" lang="zh-CN" sz="3200" spc="-1" strike="noStrike">
                <a:solidFill>
                  <a:srgbClr val="cc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损伤的血管内皮细胞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释放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F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启动外凝系统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③</a:t>
            </a:r>
            <a:r>
              <a:rPr b="1" lang="zh-CN" sz="3200" spc="-1" strike="noStrike">
                <a:solidFill>
                  <a:srgbClr val="cc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暴露的胶原促进血小板黏附、聚集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④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使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</a:rPr>
              <a:t>TM/PC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和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</a:rPr>
              <a:t>HS/AT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-Ⅲ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的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抗凝作用减弱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⑤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血管内皮细胞产生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PA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减少，纤溶活性降低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58920" y="907920"/>
            <a:ext cx="8461080" cy="587520"/>
          </a:xfrm>
          <a:prstGeom prst="rect">
            <a:avLst/>
          </a:prstGeom>
          <a:solidFill>
            <a:srgbClr val="33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血管内皮细胞损伤，凝血系统强烈激活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0B5EC-5BAF-49B8-BB51-96819B1AE701}" type="slidenum">
              <a:t>15</a:t>
            </a:fld>
          </a:p>
        </p:txBody>
      </p:sp>
    </p:spTree>
  </p:cSld>
  <p:transition>
    <p:random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755640" y="1916280"/>
            <a:ext cx="8028000" cy="1854360"/>
          </a:xfrm>
          <a:prstGeom prst="rect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◆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损伤组织细胞释放大量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</a:rPr>
              <a:t>TF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◆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活化的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</a:rPr>
              <a:t>VEC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、单核细胞及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</a:rPr>
              <a:t>PMN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释放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</a:rPr>
              <a:t>TF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24000" y="549360"/>
            <a:ext cx="7704000" cy="642600"/>
          </a:xfrm>
          <a:prstGeom prst="rect">
            <a:avLst/>
          </a:prstGeom>
          <a:solidFill>
            <a:srgbClr val="333300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宋体"/>
              </a:rPr>
              <a:t>2.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严重组织损伤，凝血系统强烈激活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556000" y="4941720"/>
            <a:ext cx="367164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外凝系统启动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284720" y="3789360"/>
            <a:ext cx="287280" cy="1224000"/>
          </a:xfrm>
          <a:prstGeom prst="downArrow">
            <a:avLst>
              <a:gd name="adj1" fmla="val 50000"/>
              <a:gd name="adj2" fmla="val 106516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66B76-FDB8-4069-B341-1CDB7E54DD08}" type="slidenum">
              <a:t>16</a:t>
            </a:fld>
          </a:p>
        </p:txBody>
      </p:sp>
    </p:spTree>
  </p:cSld>
  <p:transition>
    <p:random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684000" y="1773360"/>
            <a:ext cx="7343640" cy="45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宋体"/>
              </a:rPr>
              <a:t>(1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）抗凝血酶不足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00"/>
                </a:solidFill>
                <a:latin typeface="宋体"/>
              </a:rPr>
              <a:t>如：败血症时</a:t>
            </a:r>
            <a:r>
              <a:rPr b="1" lang="en-US" sz="3600" spc="-1" strike="noStrike">
                <a:solidFill>
                  <a:srgbClr val="00ff00"/>
                </a:solidFill>
                <a:latin typeface="宋体"/>
              </a:rPr>
              <a:t>AT</a:t>
            </a:r>
            <a:r>
              <a:rPr b="1" lang="zh-CN" sz="3600" spc="-1" strike="noStrike">
                <a:solidFill>
                  <a:srgbClr val="00ff00"/>
                </a:solidFill>
                <a:latin typeface="宋体"/>
              </a:rPr>
              <a:t>-Ⅲ</a:t>
            </a:r>
            <a:r>
              <a:rPr b="1" lang="zh-CN" sz="3600" spc="-1" strike="noStrike">
                <a:solidFill>
                  <a:srgbClr val="00ff00"/>
                </a:solidFill>
                <a:latin typeface="宋体"/>
              </a:rPr>
              <a:t>明显不足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中和凝血酶被消耗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被活化中性粒细胞释放的弹性酶降解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肝合成不足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68360" y="506520"/>
            <a:ext cx="5040360" cy="642240"/>
          </a:xfrm>
          <a:prstGeom prst="rect">
            <a:avLst/>
          </a:prstGeom>
          <a:solidFill>
            <a:srgbClr val="33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3.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抗凝系统功能抑制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95AAF-01D6-418D-9C74-D78113270F4F}" type="slidenum">
              <a:t>17</a:t>
            </a:fld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620720" y="4048920"/>
            <a:ext cx="4923000" cy="1285200"/>
          </a:xfrm>
          <a:prstGeom prst="cube">
            <a:avLst>
              <a:gd name="adj" fmla="val 6425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血管内皮细胞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132000" y="4292640"/>
            <a:ext cx="1657440" cy="504720"/>
          </a:xfrm>
          <a:prstGeom prst="ellipse">
            <a:avLst/>
          </a:prstGeom>
          <a:gradFill rotWithShape="0">
            <a:gsLst>
              <a:gs pos="0">
                <a:srgbClr val="969696"/>
              </a:gs>
              <a:gs pos="100000">
                <a:srgbClr val="fefefe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宋体"/>
              </a:rPr>
              <a:t>(2)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血栓调节蛋白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蛋白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</a:rPr>
              <a:t>C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系统抑制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629080" y="155736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蛋白</a:t>
            </a: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692360" y="278136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激活的蛋白</a:t>
            </a: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C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APC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060720" y="1989000"/>
            <a:ext cx="0" cy="863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700360" y="2421000"/>
            <a:ext cx="28908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620720" y="217980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凝血酶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508720" y="270828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灭活</a:t>
            </a: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FⅤa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，</a:t>
            </a: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FⅧ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573440" y="2997360"/>
            <a:ext cx="100836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064120" y="3068280"/>
            <a:ext cx="0" cy="576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141800" y="378936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蛋白</a:t>
            </a: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3060720" y="3213000"/>
            <a:ext cx="0" cy="4320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89440" y="321300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cc"/>
                </a:solidFill>
                <a:latin typeface="黑体"/>
                <a:ea typeface="黑体"/>
              </a:rPr>
              <a:t>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933800" y="313992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cc"/>
                </a:solidFill>
                <a:latin typeface="黑体"/>
                <a:ea typeface="黑体"/>
              </a:rPr>
              <a:t>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762200" y="4221000"/>
            <a:ext cx="280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血栓调节蛋白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T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763640" y="4149720"/>
            <a:ext cx="2416320" cy="719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411280" y="3716280"/>
            <a:ext cx="13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凝血酶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268360" y="3716280"/>
            <a:ext cx="1582920" cy="4334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03931-8E82-4168-AC7E-DABA8442FB5E}" type="slidenum">
              <a:t>18</a:t>
            </a:fld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114800" y="3124080"/>
            <a:ext cx="2286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172200" y="3124080"/>
            <a:ext cx="2286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50920" y="765000"/>
            <a:ext cx="8137440" cy="75204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</a:rPr>
              <a:t>3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）血管舒缩性和血液流动性的改变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50920" y="1844640"/>
            <a:ext cx="859140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◆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VEC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能合成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PGI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、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NO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等扩血管物质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◆ 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VEC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可产生缩血管物质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——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内皮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VEC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通过调节血管的舒缩功能，保持血液正常流动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124000" y="4292640"/>
            <a:ext cx="3816360" cy="520560"/>
          </a:xfrm>
          <a:prstGeom prst="rect">
            <a:avLst/>
          </a:prstGeom>
          <a:solidFill>
            <a:srgbClr val="33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原发病及</a:t>
            </a:r>
            <a:r>
              <a:rPr b="1" lang="en-US" sz="2800" spc="-1" strike="noStrike">
                <a:solidFill>
                  <a:srgbClr val="ffffff"/>
                </a:solidFill>
                <a:latin typeface="宋体"/>
              </a:rPr>
              <a:t>DIC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触发因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55640" y="5229360"/>
            <a:ext cx="6551640" cy="520560"/>
          </a:xfrm>
          <a:prstGeom prst="rect">
            <a:avLst/>
          </a:prstGeom>
          <a:solidFill>
            <a:srgbClr val="33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血管舒缩调节功能紊乱，血液黏度增大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916360" y="6093000"/>
            <a:ext cx="2160360" cy="520560"/>
          </a:xfrm>
          <a:prstGeom prst="rect">
            <a:avLst/>
          </a:prstGeom>
          <a:solidFill>
            <a:srgbClr val="33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微血栓形成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851280" y="4797360"/>
            <a:ext cx="144360" cy="432000"/>
          </a:xfrm>
          <a:prstGeom prst="downArrow">
            <a:avLst>
              <a:gd name="adj1" fmla="val 50000"/>
              <a:gd name="adj2" fmla="val 74813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851280" y="5661000"/>
            <a:ext cx="144360" cy="432000"/>
          </a:xfrm>
          <a:prstGeom prst="downArrow">
            <a:avLst>
              <a:gd name="adj1" fmla="val 50000"/>
              <a:gd name="adj2" fmla="val 74813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0706D-AAB0-42BE-975C-0D007E703493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476360" y="1268280"/>
            <a:ext cx="792000" cy="3822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内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容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提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要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276720" y="822240"/>
            <a:ext cx="3600360" cy="5214600"/>
          </a:xfrm>
          <a:prstGeom prst="rect">
            <a:avLst/>
          </a:prstGeom>
          <a:solidFill>
            <a:srgbClr val="99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● </a:t>
            </a:r>
            <a:r>
              <a:rPr b="1" lang="zh-CN" sz="3600" spc="-1" strike="noStrike">
                <a:solidFill>
                  <a:srgbClr val="00ff00"/>
                </a:solidFill>
                <a:latin typeface="Times New Roman"/>
              </a:rPr>
              <a:t>概念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● </a:t>
            </a:r>
            <a:r>
              <a:rPr b="1" lang="zh-CN" sz="3600" spc="-1" strike="noStrike">
                <a:solidFill>
                  <a:srgbClr val="00ff00"/>
                </a:solidFill>
                <a:latin typeface="Times New Roman"/>
              </a:rPr>
              <a:t>发生原因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● </a:t>
            </a:r>
            <a:r>
              <a:rPr b="1" lang="zh-CN" sz="3600" spc="-1" strike="noStrike">
                <a:solidFill>
                  <a:srgbClr val="00ff00"/>
                </a:solidFill>
                <a:latin typeface="Times New Roman"/>
              </a:rPr>
              <a:t>诱发因素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● </a:t>
            </a:r>
            <a:r>
              <a:rPr b="1" lang="zh-CN" sz="3600" spc="-1" strike="noStrike">
                <a:solidFill>
                  <a:srgbClr val="00ff00"/>
                </a:solidFill>
                <a:latin typeface="Times New Roman"/>
              </a:rPr>
              <a:t>发生机制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● </a:t>
            </a:r>
            <a:r>
              <a:rPr b="1" lang="zh-CN" sz="3600" spc="-1" strike="noStrike">
                <a:solidFill>
                  <a:srgbClr val="00ff00"/>
                </a:solidFill>
                <a:latin typeface="Times New Roman"/>
              </a:rPr>
              <a:t>临床表现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● </a:t>
            </a:r>
            <a:r>
              <a:rPr b="1" lang="zh-CN" sz="3600" spc="-1" strike="noStrike">
                <a:solidFill>
                  <a:srgbClr val="00ff00"/>
                </a:solidFill>
                <a:latin typeface="Times New Roman"/>
              </a:rPr>
              <a:t>分期与分型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● </a:t>
            </a:r>
            <a:r>
              <a:rPr b="1" lang="zh-CN" sz="3600" spc="-1" strike="noStrike">
                <a:solidFill>
                  <a:srgbClr val="00ff00"/>
                </a:solidFill>
                <a:latin typeface="Times New Roman"/>
              </a:rPr>
              <a:t>防治原则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E21C3-699F-406F-A53A-95F48B2DBB8C}" type="slidenum">
              <a:t>2</a:t>
            </a:fld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755640" y="692280"/>
            <a:ext cx="4608360" cy="703440"/>
          </a:xfrm>
          <a:prstGeom prst="rect">
            <a:avLst/>
          </a:prstGeom>
          <a:solidFill>
            <a:srgbClr val="33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4.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继发性纤溶激活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39640" y="1773360"/>
            <a:ext cx="8280360" cy="194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6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纤溶系统继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凝血激活之后也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被激活，且纤溶活性呈进行性增强的状态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203640" y="4724280"/>
            <a:ext cx="5472000" cy="936720"/>
          </a:xfrm>
          <a:prstGeom prst="wedgeRoundRectCallout">
            <a:avLst>
              <a:gd name="adj1" fmla="val -44981"/>
              <a:gd name="adj2" fmla="val -158643"/>
              <a:gd name="adj3" fmla="val 16667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“</a:t>
            </a: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继发性纤溶亢进”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A5EFD-5EF3-49BA-9104-87EF601336A4}" type="slidenum">
              <a:t>20</a:t>
            </a:fld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0" y="4149360"/>
            <a:ext cx="464328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纤溶酶原激活物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        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纤溶酶原     纤溶酶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1763640" y="4653000"/>
            <a:ext cx="990720" cy="1008000"/>
            <a:chOff x="1763640" y="4653000"/>
            <a:chExt cx="990720" cy="1008000"/>
          </a:xfrm>
        </p:grpSpPr>
        <p:sp>
          <p:nvSpPr>
            <p:cNvPr id="225" name=""/>
            <p:cNvSpPr/>
            <p:nvPr/>
          </p:nvSpPr>
          <p:spPr>
            <a:xfrm>
              <a:off x="1763640" y="5661000"/>
              <a:ext cx="990720" cy="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266920" y="4653000"/>
              <a:ext cx="0" cy="79200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7" name=""/>
          <p:cNvSpPr/>
          <p:nvPr/>
        </p:nvSpPr>
        <p:spPr>
          <a:xfrm>
            <a:off x="324000" y="620640"/>
            <a:ext cx="8496000" cy="2013120"/>
          </a:xfrm>
          <a:prstGeom prst="rect">
            <a:avLst/>
          </a:prstGeom>
          <a:solidFill>
            <a:srgbClr val="33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）凝血酶、</a:t>
            </a:r>
            <a:r>
              <a:rPr b="1" lang="en-US" sz="2800" spc="-1" strike="noStrike">
                <a:solidFill>
                  <a:srgbClr val="ffffff"/>
                </a:solidFill>
                <a:latin typeface="宋体"/>
              </a:rPr>
              <a:t>FXIa 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、</a:t>
            </a:r>
            <a:r>
              <a:rPr b="1" lang="en-US" sz="2800" spc="-1" strike="noStrike">
                <a:solidFill>
                  <a:srgbClr val="ffffff"/>
                </a:solidFill>
                <a:latin typeface="宋体"/>
              </a:rPr>
              <a:t>FXIIa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可激活纤溶酶原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）纤维蛋白、缓激肽等促进</a:t>
            </a:r>
            <a:r>
              <a:rPr b="1" lang="en-US" sz="2800" spc="-1" strike="noStrike">
                <a:solidFill>
                  <a:srgbClr val="ffffff"/>
                </a:solidFill>
                <a:latin typeface="宋体"/>
              </a:rPr>
              <a:t>VEC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分泌</a:t>
            </a:r>
            <a:r>
              <a:rPr b="1" lang="en-US" sz="2800" spc="-1" strike="noStrike">
                <a:solidFill>
                  <a:srgbClr val="ffffff"/>
                </a:solidFill>
                <a:latin typeface="宋体"/>
              </a:rPr>
              <a:t>t-PA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）组织（卵巢、子宫、肾上腺）中的纤溶酶原因缺氧性损伤而激活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411280" y="5300640"/>
            <a:ext cx="1729080" cy="7192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067280" y="3645000"/>
            <a:ext cx="4897440" cy="2744280"/>
          </a:xfrm>
          <a:prstGeom prst="rect">
            <a:avLst/>
          </a:prstGeom>
          <a:solidFill>
            <a:srgbClr val="33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纤溶酶作用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）溶解微血栓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）水解多种凝血因子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）水解纤维蛋白</a:t>
            </a:r>
            <a:r>
              <a:rPr b="1" lang="en-US" sz="2800" spc="-1" strike="noStrike">
                <a:solidFill>
                  <a:srgbClr val="ffffff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原</a:t>
            </a:r>
            <a:r>
              <a:rPr b="1" lang="en-US" sz="2800" spc="-1" strike="noStrike">
                <a:solidFill>
                  <a:srgbClr val="ffffff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生成</a:t>
            </a:r>
            <a:r>
              <a:rPr b="1" lang="en-US" sz="2800" spc="-1" strike="noStrike">
                <a:solidFill>
                  <a:srgbClr val="ffffff"/>
                </a:solidFill>
                <a:latin typeface="宋体"/>
              </a:rPr>
              <a:t>FD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30BFA-6D83-4468-96EC-DF0639893CB6}" type="slidenum">
              <a:t>21</a:t>
            </a:fld>
          </a:p>
        </p:txBody>
      </p:sp>
    </p:spTree>
  </p:cSld>
  <p:transition>
    <p:random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2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539640" y="2349360"/>
            <a:ext cx="6048360" cy="5814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白细胞介素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nterleukin,IL-1 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39640" y="3284640"/>
            <a:ext cx="6048360" cy="5814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白细胞介素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6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nterleukin,IL-6 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39640" y="5300640"/>
            <a:ext cx="6048360" cy="5814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白细胞介素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8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nterleukin,IL-8 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39640" y="4292640"/>
            <a:ext cx="8353440" cy="5814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肿瘤坏死因子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umor necrosis factor, TNF 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39640" y="836640"/>
            <a:ext cx="4608720" cy="703440"/>
          </a:xfrm>
          <a:prstGeom prst="rect">
            <a:avLst/>
          </a:prstGeom>
          <a:solidFill>
            <a:srgbClr val="33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5.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细胞因子的作用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11CCF-007F-469A-B156-122ACAC0EB72}" type="slidenum">
              <a:t>22</a:t>
            </a:fld>
          </a:p>
        </p:txBody>
      </p:sp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250920" y="475920"/>
            <a:ext cx="4681440" cy="896760"/>
          </a:xfrm>
          <a:prstGeom prst="rect">
            <a:avLst/>
          </a:prstGeom>
          <a:solidFill>
            <a:srgbClr val="3333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五 </a:t>
            </a:r>
            <a:r>
              <a:rPr b="1" lang="en-US" sz="4000" spc="-1" strike="noStrike">
                <a:solidFill>
                  <a:srgbClr val="ffffff"/>
                </a:solidFill>
                <a:latin typeface="宋体"/>
              </a:rPr>
              <a:t>DIC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的临床表现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95280" y="2060640"/>
            <a:ext cx="3095640" cy="70344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（一）出血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003640" y="1773360"/>
            <a:ext cx="1873440" cy="3272760"/>
          </a:xfrm>
          <a:prstGeom prst="rect">
            <a:avLst/>
          </a:prstGeom>
          <a:solidFill>
            <a:srgbClr val="ff99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最常见最早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突发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多部位难止血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720160" y="3213000"/>
            <a:ext cx="1095120" cy="82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特点：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DDEA3-213D-4528-A106-32906C7A78F2}" type="slidenum">
              <a:t>23</a:t>
            </a:fld>
          </a:p>
        </p:txBody>
      </p:sp>
    </p:spTree>
  </p:cSld>
  <p:transition>
    <p:random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4572000" y="1341360"/>
            <a:ext cx="4032360" cy="339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ff"/>
                </a:solidFill>
                <a:latin typeface="Times New Roman"/>
              </a:rPr>
              <a:t>表现形式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皮下淤斑、呕血、黑便、 咯血、牙龈出血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鼻出血、泌尿生殖道出血、颅内出血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注射部位渗血…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179280" y="1052640"/>
            <a:ext cx="4202280" cy="4800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30489-2521-46F8-B969-C9D8545C9D3A}" type="slidenum">
              <a:t>24</a:t>
            </a:fld>
          </a:p>
        </p:txBody>
      </p:sp>
    </p:spTree>
  </p:cSld>
  <p:transition>
    <p:random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4021200" y="3211560"/>
            <a:ext cx="5122800" cy="364644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324000" y="2492280"/>
            <a:ext cx="2914560" cy="215280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395280" y="4705200"/>
            <a:ext cx="2914560" cy="21528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4"/>
          <a:stretch/>
        </p:blipFill>
        <p:spPr>
          <a:xfrm>
            <a:off x="5148360" y="476280"/>
            <a:ext cx="3995640" cy="28098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5"/>
          <a:stretch/>
        </p:blipFill>
        <p:spPr>
          <a:xfrm>
            <a:off x="179280" y="0"/>
            <a:ext cx="3492720" cy="2421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6"/>
          <a:stretch/>
        </p:blipFill>
        <p:spPr>
          <a:xfrm>
            <a:off x="3276720" y="1557360"/>
            <a:ext cx="1908000" cy="1643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4B602-98DE-4CF8-86E7-460A8F36F980}" type="slidenum">
              <a:t>25</a:t>
            </a:fld>
          </a:p>
        </p:txBody>
      </p:sp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395280" y="1700280"/>
            <a:ext cx="727236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宋体"/>
              </a:rPr>
              <a:t>(1)</a:t>
            </a:r>
            <a:r>
              <a:rPr b="1" lang="zh-CN" sz="4000" spc="-1" strike="noStrike">
                <a:solidFill>
                  <a:srgbClr val="cc3300"/>
                </a:solidFill>
                <a:latin typeface="宋体"/>
              </a:rPr>
              <a:t>凝血因子及血小板数量减少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95280" y="404640"/>
            <a:ext cx="4464000" cy="7034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ff"/>
                </a:solidFill>
                <a:latin typeface="Times New Roman"/>
              </a:rPr>
              <a:t>出血的机制： </a:t>
            </a: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※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39640" y="3716280"/>
            <a:ext cx="7993080" cy="2064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）Ⅻ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</a:rPr>
              <a:t>a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激活激肽系统，进而激活纤溶酶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）缺氧、应激促进 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</a:rPr>
              <a:t>VEC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释放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</a:rPr>
              <a:t>t-P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）凝血酶激活纤溶酶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95280" y="2637000"/>
            <a:ext cx="504036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宋体"/>
              </a:rPr>
              <a:t>(2)</a:t>
            </a:r>
            <a:r>
              <a:rPr b="1" lang="zh-CN" sz="4000" spc="-1" strike="noStrike">
                <a:solidFill>
                  <a:srgbClr val="cc3300"/>
                </a:solidFill>
                <a:latin typeface="宋体"/>
              </a:rPr>
              <a:t>继发性纤溶亢进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90B32-820B-40C2-B978-93846B33585E}" type="slidenum">
              <a:t>26</a:t>
            </a:fld>
          </a:p>
        </p:txBody>
      </p:sp>
    </p:spTree>
  </p:cSld>
  <p:transition>
    <p:random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324000" y="1052640"/>
            <a:ext cx="8534160" cy="58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     </a:t>
            </a:r>
            <a:r>
              <a:rPr b="1" lang="zh-CN" sz="3600" spc="-1" strike="noStrike">
                <a:solidFill>
                  <a:srgbClr val="99cc00"/>
                </a:solidFill>
                <a:latin typeface="黑体"/>
                <a:ea typeface="黑体"/>
              </a:rPr>
              <a:t>纤溶酶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Fbg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             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X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Y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A 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、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B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                        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E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1" lang="zh-CN" sz="3600" spc="-1" strike="noStrike">
                <a:solidFill>
                  <a:srgbClr val="99cc00"/>
                </a:solidFill>
                <a:latin typeface="黑体"/>
                <a:ea typeface="黑体"/>
              </a:rPr>
              <a:t>凝血酶</a:t>
            </a:r>
            <a:r>
              <a:rPr b="1" lang="zh-CN" sz="3600" spc="-1" strike="noStrike">
                <a:solidFill>
                  <a:srgbClr val="99cc00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99cc00"/>
                </a:solidFill>
                <a:latin typeface="黑体"/>
                <a:ea typeface="黑体"/>
              </a:rPr>
              <a:t>纤溶酶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Fbg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          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Fbn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            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X’ Y’ D’ E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’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              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二聚体、多聚体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619280" y="2981160"/>
            <a:ext cx="1752480" cy="180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133880" y="2981160"/>
            <a:ext cx="533520" cy="180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353200" y="2981160"/>
            <a:ext cx="761760" cy="180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547640" y="5877000"/>
            <a:ext cx="1295640" cy="144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3924360" y="5877000"/>
            <a:ext cx="1584360" cy="144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4057560" y="2355480"/>
            <a:ext cx="533520" cy="39204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353200" y="3294000"/>
            <a:ext cx="914400" cy="23508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305080" y="2981160"/>
            <a:ext cx="228600" cy="39240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50920" y="404640"/>
            <a:ext cx="813744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Times New Roman"/>
              </a:rPr>
              <a:t>(3) </a:t>
            </a:r>
            <a:r>
              <a:rPr b="1" lang="zh-CN" sz="4000" spc="-1" strike="noStrike">
                <a:solidFill>
                  <a:srgbClr val="cc3300"/>
                </a:solidFill>
                <a:latin typeface="Times New Roman"/>
              </a:rPr>
              <a:t>纤维蛋白（原）降解产物的作用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6AE1F-8B0B-4111-B288-0C8369C0B7AB}" type="slidenum">
              <a:t>27</a:t>
            </a:fld>
          </a:p>
        </p:txBody>
      </p:sp>
    </p:spTree>
  </p:cSld>
  <p:transition spd="slow"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228600" y="304920"/>
            <a:ext cx="8686800" cy="34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00"/>
                </a:solidFill>
                <a:latin typeface="黑体"/>
                <a:ea typeface="黑体"/>
              </a:rPr>
              <a:t>纤维蛋白（原）降解产物（</a:t>
            </a:r>
            <a:r>
              <a:rPr b="1" lang="en-US" sz="3600" spc="-1" strike="noStrike">
                <a:solidFill>
                  <a:srgbClr val="00ff00"/>
                </a:solidFill>
                <a:latin typeface="黑体"/>
                <a:ea typeface="黑体"/>
              </a:rPr>
              <a:t>FDP</a:t>
            </a:r>
            <a:r>
              <a:rPr b="1" lang="en-US" sz="3600" spc="-1" strike="noStrike">
                <a:solidFill>
                  <a:srgbClr val="00ff00"/>
                </a:solidFill>
                <a:latin typeface="黑体"/>
                <a:ea typeface="黑体"/>
              </a:rPr>
              <a:t>）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：※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在</a:t>
            </a:r>
            <a:r>
              <a:rPr b="1" lang="zh-CN" sz="4000" spc="-1" strike="noStrike">
                <a:solidFill>
                  <a:srgbClr val="ffffff"/>
                </a:solidFill>
                <a:latin typeface="Tahoma"/>
              </a:rPr>
              <a:t>纤溶酶的作用下，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</a:rPr>
              <a:t>纤维蛋白原和纤维蛋白被水解成分子量不等的片段，这些片段以单体、二聚体和多聚体的形式存在于血液中，统称为</a:t>
            </a:r>
            <a:r>
              <a:rPr b="1" lang="en-US" sz="4000" spc="-1" strike="noStrike">
                <a:solidFill>
                  <a:srgbClr val="00ff00"/>
                </a:solidFill>
                <a:latin typeface="黑体"/>
                <a:ea typeface="黑体"/>
              </a:rPr>
              <a:t>FDP</a:t>
            </a:r>
            <a:r>
              <a:rPr b="1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。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A9B9E-5F6A-4278-AED3-AE75A24D539F}" type="slidenum">
              <a:t>28</a:t>
            </a:fld>
          </a:p>
        </p:txBody>
      </p:sp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1403280" y="620640"/>
            <a:ext cx="7056360" cy="42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黑体"/>
                <a:ea typeface="黑体"/>
              </a:rPr>
              <a:t>FDP</a:t>
            </a: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的作用：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◆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抑制血小板黏附、聚集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◆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抗凝血酶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◆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抑制纤维蛋白单体聚合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◆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増强微血管壁通透性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108240" y="5589720"/>
            <a:ext cx="227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“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三抗一加强”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705F3-1894-48B1-B20F-F1858741AC63}" type="slidenum">
              <a:t>29</a:t>
            </a:fld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539280" y="1773360"/>
            <a:ext cx="7993080" cy="4249440"/>
          </a:xfrm>
          <a:prstGeom prst="rect">
            <a:avLst/>
          </a:prstGeom>
          <a:noFill/>
          <a:ln w="9360">
            <a:solidFill>
              <a:srgbClr val="cc33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DIC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：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在多种致病因素作用下，凝血因子和血小板被激活，大量促凝物质入血，微循环中广泛微血栓形成，同时或继发纤维蛋白溶解亢进，出现以出血、器官功能障碍、休克和贫血为主要临床表现的病理过程。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419640" y="1916280"/>
            <a:ext cx="2209680" cy="57600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042920" y="3213000"/>
            <a:ext cx="6842160" cy="139248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908000" y="5157720"/>
            <a:ext cx="1800360" cy="91440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84360" y="404640"/>
            <a:ext cx="2808000" cy="703440"/>
          </a:xfrm>
          <a:prstGeom prst="rect">
            <a:avLst/>
          </a:prstGeom>
          <a:solidFill>
            <a:srgbClr val="99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一  概念※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37B93-FA2B-4320-AFA0-6958B6AE3F44}" type="slidenum">
              <a:t>3</a:t>
            </a:fld>
          </a:p>
        </p:txBody>
      </p:sp>
    </p:spTree>
  </p:cSld>
  <p:transition>
    <p:random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" name=""/>
          <p:cNvGrpSpPr/>
          <p:nvPr/>
        </p:nvGrpSpPr>
        <p:grpSpPr>
          <a:xfrm>
            <a:off x="250920" y="2421000"/>
            <a:ext cx="9144000" cy="3157560"/>
            <a:chOff x="250920" y="2421000"/>
            <a:chExt cx="9144000" cy="3157560"/>
          </a:xfrm>
        </p:grpSpPr>
        <p:sp>
          <p:nvSpPr>
            <p:cNvPr id="265" name=""/>
            <p:cNvSpPr/>
            <p:nvPr/>
          </p:nvSpPr>
          <p:spPr>
            <a:xfrm>
              <a:off x="250920" y="2421000"/>
              <a:ext cx="9144000" cy="31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  </a:t>
              </a:r>
              <a:r>
                <a:rPr b="1" lang="zh-CN" sz="32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血栓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  </a:t>
              </a:r>
              <a:r>
                <a:rPr b="1" lang="zh-CN" sz="32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缺氧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  </a:t>
              </a:r>
              <a:r>
                <a:rPr b="1" lang="zh-CN" sz="32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酸中毒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  </a:t>
              </a:r>
              <a:r>
                <a:rPr b="1" lang="zh-CN" sz="32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细胞因子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  </a:t>
              </a:r>
              <a:r>
                <a:rPr b="1" lang="zh-CN" sz="32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自由基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050920" y="2517480"/>
              <a:ext cx="457200" cy="2836800"/>
            </a:xfrm>
            <a:custGeom>
              <a:avLst/>
              <a:gdLst>
                <a:gd name="textAreaLeft" fmla="*/ 0 w 457200"/>
                <a:gd name="textAreaRight" fmla="*/ 164880 w 457200"/>
                <a:gd name="textAreaTop" fmla="*/ 73800 h 2836800"/>
                <a:gd name="textAreaBottom" fmla="*/ 2763000 h 2836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771640" y="3858120"/>
              <a:ext cx="990720" cy="202320"/>
            </a:xfrm>
            <a:prstGeom prst="rightArrow">
              <a:avLst>
                <a:gd name="adj1" fmla="val 50000"/>
                <a:gd name="adj2" fmla="val 122420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338720" y="3474000"/>
              <a:ext cx="3393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毛细血管损伤</a:t>
              </a:r>
              <a:r>
                <a:rPr b="1" lang="zh-CN" sz="3200" spc="-1" strike="noStrike">
                  <a:solidFill>
                    <a:srgbClr val="ffffff"/>
                  </a:solidFill>
                  <a:latin typeface="Times New Roman"/>
                </a:rPr>
                <a:t>            </a:t>
              </a:r>
              <a:r>
                <a:rPr b="1" lang="zh-CN" sz="32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出血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6443640" y="3760920"/>
              <a:ext cx="990720" cy="202320"/>
            </a:xfrm>
            <a:prstGeom prst="rightArrow">
              <a:avLst>
                <a:gd name="adj1" fmla="val 50000"/>
                <a:gd name="adj2" fmla="val 122420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0" name=""/>
          <p:cNvSpPr/>
          <p:nvPr/>
        </p:nvSpPr>
        <p:spPr>
          <a:xfrm>
            <a:off x="826920" y="1052640"/>
            <a:ext cx="396108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Times New Roman"/>
              </a:rPr>
              <a:t>(4) </a:t>
            </a:r>
            <a:r>
              <a:rPr b="1" lang="zh-CN" sz="4000" spc="-1" strike="noStrike">
                <a:solidFill>
                  <a:srgbClr val="cc3300"/>
                </a:solidFill>
                <a:latin typeface="Times New Roman"/>
              </a:rPr>
              <a:t>微血管损伤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A990D-950C-4C0F-B722-2B028575022A}" type="slidenum">
              <a:t>30</a:t>
            </a:fld>
          </a:p>
        </p:txBody>
      </p:sp>
    </p:spTree>
  </p:cSld>
  <p:transition spd="slow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/>
          </p:nvPr>
        </p:nvSpPr>
        <p:spPr>
          <a:xfrm>
            <a:off x="324000" y="1988640"/>
            <a:ext cx="8353440" cy="4535640"/>
          </a:xfrm>
          <a:prstGeom prst="rect">
            <a:avLst/>
          </a:prstGeom>
          <a:noFill/>
          <a:ln w="9360">
            <a:solidFill>
              <a:srgbClr val="00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7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7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  ●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微血栓主要出现在毛细血管、微静脉内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7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7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  ●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各器官表现不尽相同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7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7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肾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：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ffff"/>
                </a:solidFill>
                <a:latin typeface="楷体_GB2312"/>
              </a:rPr>
              <a:t>少尿、无尿、血尿及蛋白尿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7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肺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：    </a:t>
            </a:r>
            <a:r>
              <a:rPr b="1" lang="zh-CN" sz="3200" spc="-1" strike="noStrike">
                <a:solidFill>
                  <a:srgbClr val="00ffff"/>
                </a:solidFill>
                <a:latin typeface="楷体_GB2312"/>
              </a:rPr>
              <a:t>胸痛、呼吸困难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胃肠道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：</a:t>
            </a:r>
            <a:r>
              <a:rPr b="1" lang="zh-CN" sz="3200" spc="-1" strike="noStrike">
                <a:solidFill>
                  <a:srgbClr val="00ffff"/>
                </a:solidFill>
                <a:latin typeface="楷体_GB2312"/>
              </a:rPr>
              <a:t>消化道出血、黄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脑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：    </a:t>
            </a:r>
            <a:r>
              <a:rPr b="1" lang="zh-CN" sz="3200" spc="-1" strike="noStrike">
                <a:solidFill>
                  <a:srgbClr val="00ffff"/>
                </a:solidFill>
                <a:latin typeface="楷体_GB2312"/>
              </a:rPr>
              <a:t>头痛、抽搐、昏迷、惊厥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24000" y="333360"/>
            <a:ext cx="5400360" cy="550800"/>
          </a:xfrm>
          <a:prstGeom prst="rect">
            <a:avLst/>
          </a:prstGeom>
          <a:solidFill>
            <a:srgbClr val="33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（二）器官功能障碍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1187280" y="1341360"/>
            <a:ext cx="7273800" cy="505440"/>
            <a:chOff x="1187280" y="1341360"/>
            <a:chExt cx="7273800" cy="505440"/>
          </a:xfrm>
        </p:grpSpPr>
        <p:sp>
          <p:nvSpPr>
            <p:cNvPr id="274" name=""/>
            <p:cNvSpPr/>
            <p:nvPr/>
          </p:nvSpPr>
          <p:spPr>
            <a:xfrm>
              <a:off x="1187280" y="1341360"/>
              <a:ext cx="727380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Times New Roman"/>
                </a:rPr>
                <a:t>广泛微血栓               组织缺血缺氧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752280" y="1449000"/>
              <a:ext cx="1755720" cy="152640"/>
            </a:xfrm>
            <a:prstGeom prst="rightArrow">
              <a:avLst>
                <a:gd name="adj1" fmla="val 50000"/>
                <a:gd name="adj2" fmla="val 287559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A6B6F-1586-4118-AF77-97D5F0B7AA58}" type="slidenum">
              <a:t>31</a:t>
            </a:fld>
          </a:p>
        </p:txBody>
      </p:sp>
    </p:spTree>
  </p:cSld>
  <p:transition>
    <p:random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1000"/>
                            </p:stCondLst>
                            <p:childTnLst>
                              <p:par>
                                <p:cTn id="2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2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2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500"/>
                            </p:stCondLst>
                            <p:childTnLst>
                              <p:par>
                                <p:cTn id="23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2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未标题-1 复制" descr=""/>
          <p:cNvPicPr/>
          <p:nvPr/>
        </p:nvPicPr>
        <p:blipFill>
          <a:blip r:embed="rId1"/>
          <a:stretch/>
        </p:blipFill>
        <p:spPr>
          <a:xfrm>
            <a:off x="250920" y="0"/>
            <a:ext cx="4787640" cy="488304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-254520" y="4888080"/>
            <a:ext cx="5621400" cy="19220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肾上腺皮质出血坏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华弗综合征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Waterhouse-Friderichsen syndro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2"/>
          <a:stretch/>
        </p:blipFill>
        <p:spPr>
          <a:xfrm>
            <a:off x="5724360" y="1844640"/>
            <a:ext cx="3168720" cy="225252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/>
          <p:nvPr/>
        </p:nvSpPr>
        <p:spPr>
          <a:xfrm>
            <a:off x="5553000" y="4365720"/>
            <a:ext cx="3591000" cy="19220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垂体出血坏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--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席汉综合征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Sheehan’s syndro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1E1C1-C5E1-4271-8B6B-AFC82F893E07}" type="slidenum">
              <a:t>32</a:t>
            </a:fld>
          </a:p>
        </p:txBody>
      </p:sp>
    </p:spTree>
  </p:cSld>
  <p:transition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/>
          </p:nvPr>
        </p:nvSpPr>
        <p:spPr>
          <a:xfrm>
            <a:off x="468000" y="1700280"/>
            <a:ext cx="883908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  </a:t>
            </a:r>
            <a:r>
              <a:rPr b="1" lang="en-US" sz="4000" spc="-1" strike="noStrike">
                <a:solidFill>
                  <a:srgbClr val="ffff00"/>
                </a:solidFill>
                <a:latin typeface="华文细黑"/>
                <a:ea typeface="华文细黑"/>
              </a:rPr>
              <a:t>DIC</a:t>
            </a:r>
            <a:r>
              <a:rPr b="1" lang="zh-CN" sz="4000" spc="-1" strike="noStrike">
                <a:solidFill>
                  <a:srgbClr val="ffff00"/>
                </a:solidFill>
                <a:latin typeface="华文细黑"/>
                <a:ea typeface="华文细黑"/>
              </a:rPr>
              <a:t>         </a:t>
            </a:r>
            <a:r>
              <a:rPr b="1" lang="zh-CN" sz="4000" spc="-1" strike="noStrike">
                <a:solidFill>
                  <a:srgbClr val="ffff00"/>
                </a:solidFill>
                <a:latin typeface="华文细黑"/>
                <a:ea typeface="华文细黑"/>
              </a:rPr>
              <a:t>休克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宋体"/>
              </a:rPr>
              <a:t>●</a:t>
            </a:r>
            <a:r>
              <a:rPr b="1" lang="en-US" sz="3200" spc="-1" strike="noStrike">
                <a:solidFill>
                  <a:srgbClr val="ffff00"/>
                </a:solidFill>
                <a:latin typeface="华文细黑"/>
                <a:ea typeface="华文细黑"/>
              </a:rPr>
              <a:t>DIC</a:t>
            </a:r>
            <a:r>
              <a:rPr b="1" lang="zh-CN" sz="3200" spc="-1" strike="noStrike">
                <a:solidFill>
                  <a:srgbClr val="ffff00"/>
                </a:solidFill>
                <a:latin typeface="华文细黑"/>
                <a:ea typeface="华文细黑"/>
              </a:rPr>
              <a:t>和休克常互为因果</a:t>
            </a:r>
            <a:r>
              <a:rPr b="1" lang="zh-CN" sz="3200" spc="-1" strike="noStrike">
                <a:solidFill>
                  <a:srgbClr val="ffff00"/>
                </a:solidFill>
                <a:latin typeface="华文细黑"/>
                <a:ea typeface="华文细黑"/>
              </a:rPr>
              <a:t>,</a:t>
            </a:r>
            <a:r>
              <a:rPr b="1" lang="zh-CN" sz="3200" spc="-1" strike="noStrike">
                <a:solidFill>
                  <a:srgbClr val="ffff00"/>
                </a:solidFill>
                <a:latin typeface="华文细黑"/>
                <a:ea typeface="华文细黑"/>
              </a:rPr>
              <a:t>形成恶性循环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华文新魏"/>
                <a:ea typeface="华文新魏"/>
              </a:rPr>
              <a:t>DIC</a:t>
            </a:r>
            <a:r>
              <a:rPr b="1" lang="zh-CN" sz="4400" spc="-1" strike="noStrike">
                <a:solidFill>
                  <a:srgbClr val="ffffff"/>
                </a:solidFill>
                <a:latin typeface="华文新魏"/>
                <a:ea typeface="华文新魏"/>
              </a:rPr>
              <a:t>引发休克的主要机制※：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995640" y="2060640"/>
            <a:ext cx="1008000" cy="304560"/>
          </a:xfrm>
          <a:prstGeom prst="leftRightArrow">
            <a:avLst>
              <a:gd name="adj1" fmla="val 50000"/>
              <a:gd name="adj2" fmla="val 65887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39640" y="404640"/>
            <a:ext cx="7632720" cy="703440"/>
          </a:xfrm>
          <a:prstGeom prst="rect">
            <a:avLst/>
          </a:prstGeom>
          <a:solidFill>
            <a:srgbClr val="33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（三）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微循环能障碍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------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休克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BDD7E-0A4A-4873-BF8F-A355CEDBC725}" type="slidenum">
              <a:t>33</a:t>
            </a:fld>
          </a:p>
        </p:txBody>
      </p:sp>
    </p:spTree>
  </p:cSld>
  <p:transition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/>
          </p:nvPr>
        </p:nvSpPr>
        <p:spPr>
          <a:xfrm>
            <a:off x="539280" y="333000"/>
            <a:ext cx="7201080" cy="604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回心血量减少，循环血量不足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）微血栓形成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(2)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出血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外周血管阻力降低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）激肽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(2)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组胺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(3) FD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心泵功能障碍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冠脉系统微血栓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—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心肌缺血缺氧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9BC2D-1CAB-4ADE-AE42-CB45FD4A0B87}" type="slidenum">
              <a:t>34</a:t>
            </a:fld>
          </a:p>
        </p:txBody>
      </p:sp>
    </p:spTree>
  </p:cSld>
  <p:transition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4" name=""/>
          <p:cNvGrpSpPr/>
          <p:nvPr/>
        </p:nvGrpSpPr>
        <p:grpSpPr>
          <a:xfrm>
            <a:off x="2268360" y="1341360"/>
            <a:ext cx="5398560" cy="4125600"/>
            <a:chOff x="2268360" y="1341360"/>
            <a:chExt cx="5398560" cy="4125600"/>
          </a:xfrm>
        </p:grpSpPr>
        <p:grpSp>
          <p:nvGrpSpPr>
            <p:cNvPr id="285" name=""/>
            <p:cNvGrpSpPr/>
            <p:nvPr/>
          </p:nvGrpSpPr>
          <p:grpSpPr>
            <a:xfrm>
              <a:off x="2268360" y="1341360"/>
              <a:ext cx="5398560" cy="4125600"/>
              <a:chOff x="2268360" y="1341360"/>
              <a:chExt cx="5398560" cy="4125600"/>
            </a:xfrm>
          </p:grpSpPr>
          <p:sp>
            <p:nvSpPr>
              <p:cNvPr id="286" name=""/>
              <p:cNvSpPr/>
              <p:nvPr/>
            </p:nvSpPr>
            <p:spPr>
              <a:xfrm>
                <a:off x="3135960" y="4519800"/>
                <a:ext cx="318132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ff3300"/>
                    </a:solidFill>
                    <a:latin typeface="Times New Roman"/>
                  </a:rPr>
                  <a:t>     </a:t>
                </a:r>
                <a:r>
                  <a:rPr b="1" lang="en-US" sz="2800" spc="-1" strike="noStrike">
                    <a:solidFill>
                      <a:srgbClr val="ffff00"/>
                    </a:solidFill>
                    <a:latin typeface="Times New Roman"/>
                  </a:rPr>
                  <a:t>DIC</a:t>
                </a:r>
                <a:r>
                  <a:rPr b="1" lang="zh-CN" sz="2800" spc="-1" strike="noStrike">
                    <a:solidFill>
                      <a:srgbClr val="ffff00"/>
                    </a:solidFill>
                    <a:latin typeface="Times New Roman"/>
                  </a:rPr>
                  <a:t>血象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ffff00"/>
                    </a:solidFill>
                    <a:latin typeface="Times New Roman"/>
                  </a:rPr>
                  <a:t>（裂体细胞）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pic>
            <p:nvPicPr>
              <p:cNvPr id="287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2268360" y="1341360"/>
                <a:ext cx="5398560" cy="29664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88" name=""/>
            <p:cNvSpPr/>
            <p:nvPr/>
          </p:nvSpPr>
          <p:spPr>
            <a:xfrm flipV="1">
              <a:off x="4293000" y="2500920"/>
              <a:ext cx="385200" cy="211680"/>
            </a:xfrm>
            <a:prstGeom prst="line">
              <a:avLst/>
            </a:prstGeom>
            <a:ln w="633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>
              <a:off x="3810600" y="3489480"/>
              <a:ext cx="385560" cy="21168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H="1">
              <a:off x="6208920" y="2314080"/>
              <a:ext cx="409320" cy="16092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 flipV="1">
              <a:off x="5694120" y="3064680"/>
              <a:ext cx="378360" cy="14220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2" name=""/>
          <p:cNvSpPr/>
          <p:nvPr/>
        </p:nvSpPr>
        <p:spPr>
          <a:xfrm>
            <a:off x="539640" y="404640"/>
            <a:ext cx="3095640" cy="642240"/>
          </a:xfrm>
          <a:prstGeom prst="rect">
            <a:avLst/>
          </a:prstGeom>
          <a:solidFill>
            <a:srgbClr val="33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（四）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贫血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123280" y="5805360"/>
            <a:ext cx="487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表现为进行性贫血，贫血程度与出血量不成比例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F6FA0-FEDC-4408-B456-4095B2257DA3}" type="slidenum">
              <a:t>35</a:t>
            </a:fld>
          </a:p>
        </p:txBody>
      </p:sp>
    </p:spTree>
  </p:cSld>
  <p:transition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250920" y="1484280"/>
            <a:ext cx="8497800" cy="453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※</a:t>
            </a:r>
            <a:r>
              <a:rPr b="1" lang="zh-CN" sz="3600" spc="-1" strike="noStrike" u="sng">
                <a:solidFill>
                  <a:srgbClr val="ffff00"/>
                </a:solidFill>
                <a:uFillTx/>
                <a:latin typeface="黑体"/>
                <a:ea typeface="黑体"/>
              </a:rPr>
              <a:t>微血管病性溶血性贫血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ff"/>
                </a:solidFill>
                <a:latin typeface="楷体_GB2312"/>
                <a:ea typeface="楷体_GB2312"/>
              </a:rPr>
              <a:t>机制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※</a:t>
            </a:r>
            <a:r>
              <a:rPr b="1" lang="zh-CN" sz="4000" spc="-1" strike="noStrike">
                <a:solidFill>
                  <a:srgbClr val="00ffff"/>
                </a:solidFill>
                <a:latin typeface="楷体_GB2312"/>
                <a:ea typeface="楷体_GB2312"/>
              </a:rPr>
              <a:t>：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宋体"/>
              </a:rPr>
              <a:t>1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．纤维蛋白丝的切割作用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宋体"/>
              </a:rPr>
              <a:t>2.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微血流通道受阻，红细胞机械性损伤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宋体"/>
              </a:rPr>
              <a:t>3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．某些病因使红细胞脆性增加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1"/>
          <a:stretch/>
        </p:blipFill>
        <p:spPr>
          <a:xfrm>
            <a:off x="5580000" y="765000"/>
            <a:ext cx="3564000" cy="2940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31CBC-7480-465F-9B6B-E107B345BCDF}" type="slidenum">
              <a:t>36</a:t>
            </a:fld>
          </a:p>
        </p:txBody>
      </p:sp>
    </p:spTree>
  </p:cSld>
  <p:transition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6" name="ShockwaveFlash1"/>
          <p:cNvGraphicFramePr/>
          <p:nvPr/>
        </p:nvGraphicFramePr>
        <p:xfrm>
          <a:off x="609480" y="380880"/>
          <a:ext cx="8229600" cy="5410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7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80880"/>
                    <a:ext cx="8229600" cy="5410440"/>
                  </a:xfrm>
                  <a:prstGeom prst="rect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DF5E7-992E-48F3-821A-0EF94E4A3FA0}" type="slidenum">
              <a:t>37</a:t>
            </a:fld>
          </a:p>
        </p:txBody>
      </p:sp>
    </p:spTree>
  </p:cSld>
  <p:transition>
    <p:random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" descr=""/>
          <p:cNvPicPr/>
          <p:nvPr/>
        </p:nvPicPr>
        <p:blipFill>
          <a:blip r:embed="rId1"/>
          <a:stretch/>
        </p:blipFill>
        <p:spPr>
          <a:xfrm>
            <a:off x="4724280" y="304920"/>
            <a:ext cx="4191120" cy="5410080"/>
          </a:xfrm>
          <a:prstGeom prst="rect">
            <a:avLst/>
          </a:prstGeom>
          <a:ln w="0">
            <a:noFill/>
          </a:ln>
        </p:spPr>
      </p:pic>
      <p:sp>
        <p:nvSpPr>
          <p:cNvPr id="299" name=""/>
          <p:cNvSpPr/>
          <p:nvPr/>
        </p:nvSpPr>
        <p:spPr>
          <a:xfrm>
            <a:off x="0" y="5902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宋体"/>
              </a:rPr>
              <a:t>RBC</a:t>
            </a:r>
            <a:r>
              <a:rPr b="1" lang="zh-CN" sz="2400" spc="-1" strike="noStrike">
                <a:solidFill>
                  <a:srgbClr val="ffff00"/>
                </a:solidFill>
                <a:latin typeface="宋体"/>
              </a:rPr>
              <a:t>悬挂在纤维蛋白索上（扫描电镜，左</a:t>
            </a:r>
            <a:r>
              <a:rPr b="1" lang="zh-CN" sz="24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1" lang="zh-CN" sz="2400" spc="-1" strike="noStrike">
                <a:solidFill>
                  <a:srgbClr val="ffff00"/>
                </a:solidFill>
                <a:latin typeface="宋体"/>
              </a:rPr>
              <a:t>2000</a:t>
            </a:r>
            <a:r>
              <a:rPr b="1" lang="zh-CN" sz="2400" spc="-1" strike="noStrike">
                <a:solidFill>
                  <a:srgbClr val="ffff00"/>
                </a:solidFill>
                <a:latin typeface="宋体"/>
              </a:rPr>
              <a:t>，右</a:t>
            </a:r>
            <a:r>
              <a:rPr b="1" lang="zh-CN" sz="24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1" lang="zh-CN" sz="2400" spc="-1" strike="noStrike">
                <a:solidFill>
                  <a:srgbClr val="ffff00"/>
                </a:solidFill>
                <a:latin typeface="宋体"/>
              </a:rPr>
              <a:t>5200</a:t>
            </a:r>
            <a:r>
              <a:rPr b="1" lang="zh-CN" sz="2400" spc="-1" strike="noStrike">
                <a:solidFill>
                  <a:srgbClr val="ffff00"/>
                </a:solidFill>
                <a:latin typeface="宋体"/>
              </a:rPr>
              <a:t>）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2"/>
          <a:stretch/>
        </p:blipFill>
        <p:spPr>
          <a:xfrm>
            <a:off x="304920" y="304920"/>
            <a:ext cx="4038480" cy="5410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A62CC-B841-414B-A2F6-897EB23D6D59}" type="slidenum">
              <a:t>38</a:t>
            </a:fld>
          </a:p>
        </p:txBody>
      </p:sp>
    </p:spTree>
  </p:cSld>
  <p:transition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2556000" y="1538280"/>
            <a:ext cx="4825800" cy="821880"/>
          </a:xfrm>
          <a:prstGeom prst="ellipse">
            <a:avLst/>
          </a:prstGeom>
          <a:solidFill>
            <a:srgbClr val="cc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高凝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859280" y="2492280"/>
            <a:ext cx="152280" cy="533520"/>
          </a:xfrm>
          <a:prstGeom prst="downArrow">
            <a:avLst>
              <a:gd name="adj1" fmla="val 50000"/>
              <a:gd name="adj2" fmla="val 87589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700360" y="3193920"/>
            <a:ext cx="4680000" cy="821880"/>
          </a:xfrm>
          <a:prstGeom prst="ellipse">
            <a:avLst/>
          </a:prstGeom>
          <a:solidFill>
            <a:srgbClr val="cc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消耗性低凝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59280" y="4076640"/>
            <a:ext cx="152280" cy="609840"/>
          </a:xfrm>
          <a:prstGeom prst="downArrow">
            <a:avLst>
              <a:gd name="adj1" fmla="val 50000"/>
              <a:gd name="adj2" fmla="val 100118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0920" y="4848480"/>
            <a:ext cx="6050160" cy="821880"/>
          </a:xfrm>
          <a:prstGeom prst="ellipse">
            <a:avLst/>
          </a:prstGeom>
          <a:solidFill>
            <a:srgbClr val="cc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继发性纤溶亢进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0920" y="333360"/>
            <a:ext cx="3889440" cy="703440"/>
          </a:xfrm>
          <a:prstGeom prst="rect">
            <a:avLst/>
          </a:prstGeom>
          <a:solidFill>
            <a:srgbClr val="33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六 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DIC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的分期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9BCB2-BC17-4914-990D-43CA298993E4}" type="slidenum">
              <a:t>39</a:t>
            </a:fld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95280" y="404640"/>
            <a:ext cx="4897440" cy="703440"/>
          </a:xfrm>
          <a:prstGeom prst="rect">
            <a:avLst/>
          </a:prstGeom>
          <a:solidFill>
            <a:srgbClr val="99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二 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DIC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发生的原因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1186920" y="3428640"/>
            <a:ext cx="396252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细菌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病毒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立克次体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其他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10600" y="2133720"/>
            <a:ext cx="3685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1.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严重感染 （最常见）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9" name="细菌形态" descr=""/>
          <p:cNvPicPr/>
          <p:nvPr/>
        </p:nvPicPr>
        <p:blipFill>
          <a:blip r:embed="rId1"/>
          <a:stretch/>
        </p:blipFill>
        <p:spPr>
          <a:xfrm>
            <a:off x="4716360" y="2924280"/>
            <a:ext cx="1656000" cy="1504800"/>
          </a:xfrm>
          <a:prstGeom prst="rect">
            <a:avLst/>
          </a:prstGeom>
          <a:ln w="28440">
            <a:solidFill>
              <a:srgbClr val="04fc2d"/>
            </a:solidFill>
            <a:miter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6588000" y="2924280"/>
            <a:ext cx="1513080" cy="14889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" descr="200511221643532"/>
          <p:cNvPicPr/>
          <p:nvPr/>
        </p:nvPicPr>
        <p:blipFill>
          <a:blip r:embed="rId3"/>
          <a:stretch/>
        </p:blipFill>
        <p:spPr>
          <a:xfrm>
            <a:off x="4572000" y="4724280"/>
            <a:ext cx="1995480" cy="15717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" descr="22"/>
          <p:cNvPicPr/>
          <p:nvPr/>
        </p:nvPicPr>
        <p:blipFill>
          <a:blip r:embed="rId4"/>
          <a:stretch/>
        </p:blipFill>
        <p:spPr>
          <a:xfrm>
            <a:off x="6732720" y="4724280"/>
            <a:ext cx="1714320" cy="1567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7D067-2971-4677-85BF-4006F8FDBE63}" type="slidenum">
              <a:t>4</a:t>
            </a:fld>
          </a:p>
        </p:txBody>
      </p:sp>
    </p:spTree>
  </p:cSld>
  <p:transition>
    <p:random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45" dur="1" fill="hold"/>
                                  <p:tgtEl>
                                    <p:spTgt spid="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2442960" y="1484280"/>
            <a:ext cx="552600" cy="1323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凝血酶、纤维蛋白大量形成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血小板激活、黏附、聚集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724360" y="2708280"/>
            <a:ext cx="609840" cy="152280"/>
          </a:xfrm>
          <a:prstGeom prst="rightArrow">
            <a:avLst>
              <a:gd name="adj1" fmla="val 50000"/>
              <a:gd name="adj2" fmla="val 100118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780960" y="249228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微血栓形成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79280" y="549360"/>
            <a:ext cx="3672000" cy="70344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（一）高凝期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252800" y="2997360"/>
            <a:ext cx="3350520" cy="581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纤溶系统尚未启动或刚刚启动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24000" y="3933720"/>
            <a:ext cx="8496000" cy="206712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特点：此期进展快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各脏器微循环广泛微血栓形成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临床表现以原发疾病表现为主，易漏诊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F2287-BBAF-4B13-99FD-23930DBF25C2}" type="slidenum">
              <a:t>40</a:t>
            </a:fld>
          </a:p>
        </p:txBody>
      </p:sp>
    </p:spTree>
  </p:cSld>
  <p:transition>
    <p:random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179280" y="549360"/>
            <a:ext cx="5184720" cy="70344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（二）消耗性低凝期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259800" y="227664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凝血因子、血小板消耗减少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623240" y="299736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纤溶活性继发增强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269360" y="4724280"/>
            <a:ext cx="2131560" cy="58140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微血栓与出血并存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836000" y="5516640"/>
            <a:ext cx="5835600" cy="58140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血小板进行性减少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&lt;100×10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imes New Roman"/>
              </a:rPr>
              <a:t>9</a:t>
            </a:r>
            <a:r>
              <a:rPr b="1" lang="zh-CN" sz="3200" spc="-1" strike="noStrike" baseline="30000">
                <a:solidFill>
                  <a:srgbClr val="ffffff"/>
                </a:solidFill>
                <a:latin typeface="Times New Roman"/>
              </a:rPr>
              <a:t>）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，聚集性减弱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42960" y="3860640"/>
            <a:ext cx="912240" cy="58140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特点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031EB-4161-4007-AC86-097C60F592F3}" type="slidenum">
              <a:t>41</a:t>
            </a:fld>
          </a:p>
        </p:txBody>
      </p:sp>
    </p:spTree>
  </p:cSld>
  <p:transition>
    <p:random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1662840" y="3600360"/>
            <a:ext cx="1315800" cy="581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.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凝血酶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476000" y="2060640"/>
            <a:ext cx="1459440" cy="581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.FXI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067280" y="3141720"/>
            <a:ext cx="1334880" cy="71280"/>
          </a:xfrm>
          <a:prstGeom prst="rightArrow">
            <a:avLst>
              <a:gd name="adj1" fmla="val 50000"/>
              <a:gd name="adj2" fmla="val 468182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572000" y="2565360"/>
            <a:ext cx="68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(+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835600" y="29242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纤溶系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9280" y="549360"/>
            <a:ext cx="6121440" cy="70344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（三）继发性纤溶亢进期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477080" y="2852640"/>
            <a:ext cx="1119600" cy="581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.tP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900000" y="5013360"/>
            <a:ext cx="5040360" cy="58140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特点：明显、广泛的出血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4BB60-3ADA-4194-9834-11479D59D396}" type="slidenum">
              <a:t>42</a:t>
            </a:fld>
          </a:p>
        </p:txBody>
      </p:sp>
    </p:spTree>
  </p:cSld>
  <p:transition>
    <p:random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468360" y="189000"/>
            <a:ext cx="7632720" cy="113004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血浆鱼精蛋白副凝试验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------“3P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试验”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(Plasma protamin paracoagulation test 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322280" y="152388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纤维蛋白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940320" y="2060640"/>
            <a:ext cx="729360" cy="45972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凝血酶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897480" y="2590920"/>
            <a:ext cx="237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纤维蛋白单体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898880" y="15238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纤维蛋白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764680" y="1989000"/>
            <a:ext cx="729360" cy="45972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纤溶酶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615200" y="2590920"/>
            <a:ext cx="24246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+F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+F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+F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981080" y="3124080"/>
            <a:ext cx="0" cy="22860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562720" y="3124080"/>
            <a:ext cx="0" cy="22860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981080" y="3352680"/>
            <a:ext cx="3581640" cy="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733920" y="3352680"/>
            <a:ext cx="0" cy="38124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679200" y="3657600"/>
            <a:ext cx="30697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M (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可溶性复合物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733920" y="4191120"/>
            <a:ext cx="0" cy="53316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096800" y="4221000"/>
            <a:ext cx="912240" cy="45972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鱼精蛋白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H="1">
            <a:off x="2895120" y="4724280"/>
            <a:ext cx="838440" cy="22860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733920" y="4724280"/>
            <a:ext cx="685800" cy="22860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222640" y="4952880"/>
            <a:ext cx="5756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45560" y="4952880"/>
            <a:ext cx="54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800600" y="5257800"/>
            <a:ext cx="380880" cy="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08360" y="49528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自我聚合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6858000" y="5257800"/>
            <a:ext cx="380880" cy="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661160" y="49528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絮状沉淀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981080" y="2057400"/>
            <a:ext cx="0" cy="53352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5486400" y="2057400"/>
            <a:ext cx="0" cy="53352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987640" y="5791320"/>
            <a:ext cx="2521080" cy="106884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正常：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IC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： 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9FCAB-B8D9-4535-A99B-5EBA15E006C5}" type="slidenum">
              <a:t>43</a:t>
            </a:fld>
          </a:p>
        </p:txBody>
      </p:sp>
    </p:spTree>
  </p:cSld>
  <p:transition>
    <p:random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395280" y="907920"/>
            <a:ext cx="6696000" cy="67860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—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二聚体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-dimer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D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）检查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3" name=""/>
          <p:cNvGrpSpPr/>
          <p:nvPr/>
        </p:nvGrpSpPr>
        <p:grpSpPr>
          <a:xfrm>
            <a:off x="1476360" y="2205000"/>
            <a:ext cx="6093000" cy="1942920"/>
            <a:chOff x="1476360" y="2205000"/>
            <a:chExt cx="6093000" cy="1942920"/>
          </a:xfrm>
        </p:grpSpPr>
        <p:sp>
          <p:nvSpPr>
            <p:cNvPr id="354" name=""/>
            <p:cNvSpPr/>
            <p:nvPr/>
          </p:nvSpPr>
          <p:spPr>
            <a:xfrm>
              <a:off x="2270160" y="2205000"/>
              <a:ext cx="129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凝血酶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476360" y="2923920"/>
              <a:ext cx="107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Fbg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781440" y="2938320"/>
              <a:ext cx="83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Fb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2166840" y="3211200"/>
              <a:ext cx="15112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816280" y="2636640"/>
              <a:ext cx="0" cy="5032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4402080" y="3211200"/>
              <a:ext cx="15112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5051520" y="2636640"/>
              <a:ext cx="0" cy="5032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471920" y="2205000"/>
              <a:ext cx="129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纤溶酶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808280" y="3716280"/>
              <a:ext cx="2160360" cy="431640"/>
            </a:xfrm>
            <a:prstGeom prst="wedgeRectCallout">
              <a:avLst>
                <a:gd name="adj1" fmla="val 53087"/>
                <a:gd name="adj2" fmla="val -125000"/>
              </a:avLst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纤维蛋白多聚体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5913360" y="2923920"/>
              <a:ext cx="165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D-</a:t>
              </a:r>
              <a:r>
                <a:rPr b="1" lang="zh-CN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二聚体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64" name=""/>
          <p:cNvSpPr/>
          <p:nvPr/>
        </p:nvSpPr>
        <p:spPr>
          <a:xfrm>
            <a:off x="1619280" y="4797360"/>
            <a:ext cx="5040360" cy="127188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血浆正常水平：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&lt;0.5mg/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IC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： 明显升高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3A18D-1ACD-471B-97BB-A6230CC9790C}" type="slidenum">
              <a:t>44</a:t>
            </a:fld>
          </a:p>
        </p:txBody>
      </p:sp>
    </p:spTree>
  </p:cSld>
  <p:transition>
    <p:random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/>
          <p:nvPr/>
        </p:nvSpPr>
        <p:spPr>
          <a:xfrm>
            <a:off x="324000" y="2205000"/>
            <a:ext cx="8351640" cy="45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● </a:t>
            </a: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急性型（</a:t>
            </a:r>
            <a:r>
              <a:rPr b="1" lang="en-US" sz="3600" spc="-1" strike="noStrike">
                <a:solidFill>
                  <a:srgbClr val="ffff00"/>
                </a:solidFill>
                <a:latin typeface="宋体"/>
              </a:rPr>
              <a:t>61%</a:t>
            </a: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）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病情迅速恶化，分期不明显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● </a:t>
            </a: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慢性型（</a:t>
            </a:r>
            <a:r>
              <a:rPr b="1" lang="en-US" sz="3600" spc="-1" strike="noStrike">
                <a:solidFill>
                  <a:srgbClr val="ffff00"/>
                </a:solidFill>
                <a:latin typeface="宋体"/>
              </a:rPr>
              <a:t>20%</a:t>
            </a: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）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机体有一定代偿能力，临床表现不明显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● </a:t>
            </a: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亚急性型（</a:t>
            </a:r>
            <a:r>
              <a:rPr b="1" lang="en-US" sz="3600" spc="-1" strike="noStrike">
                <a:solidFill>
                  <a:srgbClr val="ffff00"/>
                </a:solidFill>
                <a:latin typeface="宋体"/>
              </a:rPr>
              <a:t>19%</a:t>
            </a: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）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介于急性型与慢性型之间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879120" y="1268280"/>
            <a:ext cx="2512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病程进展速度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50920" y="189000"/>
            <a:ext cx="4392360" cy="7034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七   </a:t>
            </a: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DIC</a:t>
            </a: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的分型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8300B-1348-42B4-A5FB-DDC016F5DD74}" type="slidenum">
              <a:t>45</a:t>
            </a:fld>
          </a:p>
        </p:txBody>
      </p:sp>
    </p:spTree>
  </p:cSld>
  <p:transition>
    <p:random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/>
          </p:nvPr>
        </p:nvSpPr>
        <p:spPr>
          <a:xfrm>
            <a:off x="0" y="2420640"/>
            <a:ext cx="914400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●</a:t>
            </a: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代偿型：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生成与消耗基本持平，轻度出血和血栓形成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●</a:t>
            </a: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失代偿型：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消耗＞生成，有明显的出血和休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●</a:t>
            </a: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过度代偿型：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生成＞消耗，出血症状不明显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24000" y="836640"/>
            <a:ext cx="8280360" cy="16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机体代偿状态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（凝血因子和血小板生成与消耗的比例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65A4F-F4F3-4300-B6C3-2A1AB1DCE715}" type="slidenum">
              <a:t>46</a:t>
            </a:fld>
          </a:p>
        </p:txBody>
      </p:sp>
    </p:spTree>
  </p:cSld>
  <p:transition>
    <p:random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/>
          </p:nvPr>
        </p:nvSpPr>
        <p:spPr>
          <a:xfrm>
            <a:off x="324000" y="836280"/>
            <a:ext cx="842472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3.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发病部位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全身型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     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局部型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局部型</a:t>
            </a:r>
            <a:r>
              <a:rPr b="0" lang="en-US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DIC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只是全身型</a:t>
            </a:r>
            <a:r>
              <a:rPr b="0" lang="en-US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DIC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的局部表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1258920" y="2492280"/>
            <a:ext cx="380880" cy="838440"/>
          </a:xfrm>
          <a:custGeom>
            <a:avLst/>
            <a:gdLst>
              <a:gd name="textAreaLeft" fmla="*/ 243360 w 380880"/>
              <a:gd name="textAreaRight" fmla="*/ 381240 w 380880"/>
              <a:gd name="textAreaTop" fmla="*/ 21600 h 838440"/>
              <a:gd name="textAreaBottom" fmla="*/ 816840 h 838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27FFB-B739-4B35-879C-14AE6FFDAD2A}" type="slidenum">
              <a:t>47</a:t>
            </a:fld>
          </a:p>
        </p:txBody>
      </p:sp>
    </p:spTree>
  </p:cSld>
  <p:transition>
    <p:random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/>
          </p:nvPr>
        </p:nvSpPr>
        <p:spPr>
          <a:xfrm>
            <a:off x="228240" y="836640"/>
            <a:ext cx="8915400" cy="60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1.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去除病因和诱因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2.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维持生命体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3.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对症处理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早期：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抗凝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</a:t>
            </a: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肝素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抗血小板聚集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</a:t>
            </a: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潘生丁、阿司匹林）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改善微循环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</a:t>
            </a: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解除血管痉挛、溶栓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后期：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抗纤溶药物疗法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</a:t>
            </a: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6-</a:t>
            </a: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氨基己酸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替代疗法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</a:t>
            </a: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输新鲜血浆、浓缩纤维蛋白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                </a:t>
            </a: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或血小板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79280" y="189000"/>
            <a:ext cx="3961080" cy="642240"/>
          </a:xfrm>
          <a:prstGeom prst="rect">
            <a:avLst/>
          </a:prstGeom>
          <a:solidFill>
            <a:srgbClr val="33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八  防治原则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52B41-FFE3-49F0-9FB3-7C560D50D879}" type="slidenum">
              <a:t>48</a:t>
            </a:fld>
          </a:p>
        </p:txBody>
      </p:sp>
    </p:spTree>
  </p:cSld>
  <p:transition>
    <p:random/>
  </p:transition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/>
          <p:nvPr/>
        </p:nvSpPr>
        <p:spPr>
          <a:xfrm>
            <a:off x="971640" y="836640"/>
            <a:ext cx="7524720" cy="521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  <a:ea typeface="黑体"/>
              </a:rPr>
              <a:t>复习题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名词：弥散性血管内凝血、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FD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2.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IC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的发生机制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3.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IC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的分期及各期特点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4.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IC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患者出血的特点和机制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5.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微血管病性溶血性贫血的发生机制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6.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IC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引起休克的机制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FC82F-C573-414A-B11A-3548F2683FB3}" type="slidenum">
              <a:t>49</a:t>
            </a:fld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250920" y="260280"/>
            <a:ext cx="35989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宋体"/>
              </a:rPr>
              <a:t>2.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恶性肿瘤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763640" y="1413000"/>
            <a:ext cx="5400720" cy="33051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826920" y="5013360"/>
            <a:ext cx="734544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00"/>
                </a:solidFill>
                <a:latin typeface="Times New Roman"/>
              </a:rPr>
              <a:t>●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肿瘤细胞高表达</a:t>
            </a: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TF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00"/>
                </a:solidFill>
                <a:latin typeface="Times New Roman"/>
              </a:rPr>
              <a:t>●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急性早幼粒细胞性白血病最常见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1782C-B6E0-4AE9-9974-2E11EEB28A68}" type="slidenum">
              <a:t>5</a:t>
            </a:fld>
          </a:p>
        </p:txBody>
      </p:sp>
    </p:spTree>
  </p:cSld>
  <p:transition>
    <p:random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539640" y="1052640"/>
            <a:ext cx="8139240" cy="19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5400" spc="-1" strike="noStrike">
                <a:solidFill>
                  <a:srgbClr val="ffff00"/>
                </a:solidFill>
                <a:latin typeface="Times New Roman"/>
                <a:ea typeface="隶书"/>
              </a:rPr>
              <a:t>病例讨论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24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岁初产妇，足月妊娠分娩，胎儿和胎盘娩出后，阴道仍流血不止。在进行抢救时，初期因针头内凝血影响输液，后来针头部位渗血不止，终因抢救无效而死亡，死后病理解剖诊断为：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A2FDE-5E34-4281-A01D-32026797E69E}" type="slidenum">
              <a:t>50</a:t>
            </a:fld>
          </a:p>
        </p:txBody>
      </p:sp>
    </p:spTree>
  </p:cSld>
  <p:transition spd="slow">
    <p:random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457200" y="380880"/>
            <a:ext cx="8458200" cy="56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　　①  前置胎盘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　　②  羊水栓塞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　　③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DIC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根据以上简要病史和病解发现，你考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虑患者发生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DIC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的机制如何？为何出现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输液凝血，针刺部位渗血和阴道大流血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等临床表现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?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　　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19287-6D22-457D-8B08-00BF50C40C8A}" type="slidenum">
              <a:t>51</a:t>
            </a:fld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324000" y="404640"/>
            <a:ext cx="4437000" cy="52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宋体"/>
              </a:rPr>
              <a:t>3.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妇产科疾病</a:t>
            </a: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：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胎盘早剥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羊水栓塞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死胎滞留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败血症流产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剖宫产手术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3132000" y="1214280"/>
            <a:ext cx="5472360" cy="4015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0A32E-D8C8-44D9-B4A1-B6B7F8645689}" type="slidenum">
              <a:t>6</a:t>
            </a:fld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611280" y="620640"/>
            <a:ext cx="3348000" cy="50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宋体"/>
              </a:rPr>
              <a:t>4.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组织损伤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创伤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烧伤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大手术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骨折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蛇咬伤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4643280" y="990720"/>
            <a:ext cx="4500720" cy="3809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49B7F-351A-48F4-AC00-56D9E4B01BF0}" type="slidenum">
              <a:t>7</a:t>
            </a:fld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250920" y="1916280"/>
            <a:ext cx="75960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单核巨噬细胞系统功能障碍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6300720" y="1625760"/>
            <a:ext cx="2665440" cy="180324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324000" y="549360"/>
            <a:ext cx="4895640" cy="642240"/>
          </a:xfrm>
          <a:prstGeom prst="rect">
            <a:avLst/>
          </a:prstGeom>
          <a:solidFill>
            <a:srgbClr val="99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三 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DIC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发生的诱因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68360" y="3429000"/>
            <a:ext cx="867564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00"/>
                </a:solidFill>
                <a:latin typeface="Times New Roman"/>
                <a:ea typeface="楷体_GB2312"/>
              </a:rPr>
              <a:t>全身性施瓦茨曼（</a:t>
            </a:r>
            <a:r>
              <a:rPr b="1" lang="en-US" sz="3600" spc="-1" strike="noStrike">
                <a:solidFill>
                  <a:srgbClr val="00ff00"/>
                </a:solidFill>
                <a:latin typeface="Times New Roman"/>
                <a:ea typeface="楷体_GB2312"/>
              </a:rPr>
              <a:t>Shwartzman</a:t>
            </a:r>
            <a:r>
              <a:rPr b="1" lang="en-US" sz="3600" spc="-1" strike="noStrike">
                <a:solidFill>
                  <a:srgbClr val="00ff00"/>
                </a:solidFill>
                <a:latin typeface="Times New Roman"/>
                <a:ea typeface="楷体_GB2312"/>
              </a:rPr>
              <a:t>）</a:t>
            </a:r>
            <a:r>
              <a:rPr b="1" lang="zh-CN" sz="3600" spc="-1" strike="noStrike">
                <a:solidFill>
                  <a:srgbClr val="00ff00"/>
                </a:solidFill>
                <a:latin typeface="Times New Roman"/>
                <a:ea typeface="楷体_GB2312"/>
              </a:rPr>
              <a:t>反应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                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给</a:t>
            </a:r>
            <a:r>
              <a:rPr b="1" lang="zh-CN" sz="2800" spc="-1" strike="noStrike">
                <a:solidFill>
                  <a:srgbClr val="ffff00"/>
                </a:solidFill>
                <a:latin typeface="华文细黑"/>
                <a:ea typeface="华文细黑"/>
              </a:rPr>
              <a:t>动物两次注射小剂量内毒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第一次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吞噬内毒素，功能被“封闭”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第二次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清除凝血因子和内毒素功能障碍，易引起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DIC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8803F-0605-4168-A83B-B13D22432EDC}" type="slidenum">
              <a:t>8</a:t>
            </a:fld>
          </a:p>
        </p:txBody>
      </p:sp>
    </p:spTree>
  </p:cSld>
  <p:transition>
    <p:random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1042560" y="2997000"/>
            <a:ext cx="691380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●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坏死肝细胞释放大量组织因子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●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抗凝血酶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Ⅲ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产生不足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●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肝解毒功能下降，血管内皮受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●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肝单核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吞噬细胞系统功能降低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5651640" y="0"/>
            <a:ext cx="2952720" cy="21351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1189440" y="692280"/>
            <a:ext cx="320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2. 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肝功能严重障碍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D2018-266B-4C7E-9D64-DDA03EEB093D}" type="slidenum">
              <a:t>9</a:t>
            </a:fld>
          </a:p>
        </p:txBody>
      </p:sp>
    </p:spTree>
  </p:cSld>
  <p:transition>
    <p:random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zg</cp:lastModifiedBy>
  <dcterms:modified xsi:type="dcterms:W3CDTF">2014-04-20T04:47:20Z</dcterms:modified>
  <cp:revision>115</cp:revision>
  <dc:subject/>
  <dc:title>PowerPoint Presentation</dc:title>
</cp:coreProperties>
</file>